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3.jpeg" ContentType="image/jpeg"/>
  <Override PartName="/ppt/media/image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11.jpeg" ContentType="image/jpeg"/>
  <Override PartName="/ppt/media/image6.jpeg" ContentType="image/jpeg"/>
  <Override PartName="/ppt/media/image3.png" ContentType="image/png"/>
  <Override PartName="/ppt/media/camera.wav" ContentType="audio/x-wav"/>
  <Override PartName="/ppt/media/image7.jpeg" ContentType="image/jpeg"/>
  <Override PartName="/ppt/media/image12.jpeg" ContentType="image/jpeg"/>
  <Override PartName="/ppt/media/cashreg.wav" ContentType="audio/x-wav"/>
  <Override PartName="/ppt/media/drumroll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0826-E1FE-4FE8-BB4D-68A8F7B22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E4B6-973A-45F4-AD4F-BB93ABF51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AAEB-2450-4036-928B-F3BB41F3F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3C74-B96E-471E-969B-E54C8F1BC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2A921-BBCA-4E4F-817C-CB9E5E04E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D1411-FD66-479C-B912-75E2041D1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A8B5E-9B83-46B5-B598-187AE54C3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CD40B-9AE7-496E-93C4-B365E446C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CB8E6-4D76-4044-9114-7A472DBF6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CABC1-3B31-407E-BCF2-0BC00A99F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16B41-33DE-40A3-AFE6-7175D39D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0ED9-C66E-42DF-B22B-C32B695B6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C52CA-7FB5-4D4F-B772-073BB559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8FE42-B3FF-469B-87A0-4921B5AA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1690C-48F0-4AF0-B6C7-09B090171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A61F9-5AFD-4A73-9F92-1C85672DB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28C1A-DB5D-451F-BEDD-344219E2C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A0C7-6425-48F2-A66D-ADB119197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7F0E-E66F-41E9-9FD0-75088807B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164B-30AA-47E5-9534-4AC70F3DA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41FB-9C6F-41FB-9079-11B33459C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4501-C9C4-4EBE-AE42-A1133681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E19D-D7AC-4559-91EA-8C9A4289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E129-5CF8-4DB7-BABF-C15387E52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5238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400800"/>
            <a:ext cx="9144000" cy="152280"/>
          </a:xfrm>
          <a:prstGeom prst="rect">
            <a:avLst/>
          </a:prstGeom>
          <a:gradFill rotWithShape="0">
            <a:gsLst>
              <a:gs pos="0">
                <a:srgbClr val="f1f7e9"/>
              </a:gs>
              <a:gs pos="100000">
                <a:srgbClr val="8dba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530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533520"/>
            <a:ext cx="8534520" cy="685800"/>
          </a:xfrm>
          <a:prstGeom prst="rect">
            <a:avLst/>
          </a:prstGeom>
          <a:solidFill>
            <a:srgbClr val="8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85009-B3EA-4949-9DD6-C1F14A4AFD50}" type="slidenum">
              <a:rPr b="0" lang="zh-CN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8" name=""/>
            <p:cNvSpPr/>
            <p:nvPr/>
          </p:nvSpPr>
          <p:spPr>
            <a:xfrm>
              <a:off x="0" y="6400800"/>
              <a:ext cx="9144000" cy="152280"/>
            </a:xfrm>
            <a:prstGeom prst="rect">
              <a:avLst/>
            </a:prstGeom>
            <a:gradFill rotWithShape="0">
              <a:gsLst>
                <a:gs pos="0">
                  <a:srgbClr val="f1f7e9"/>
                </a:gs>
                <a:gs pos="100000">
                  <a:srgbClr val="8dba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0"/>
              <a:ext cx="9144000" cy="3657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3657600"/>
              <a:ext cx="9144000" cy="144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6553080"/>
              <a:ext cx="9144000" cy="180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480" y="2514600"/>
              <a:ext cx="8534520" cy="6858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DDE82-E310-4635-AC0F-909AC724F4F3}" type="slidenum">
              <a:rPr b="0" lang="zh-CN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" Target="slide7.xml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2.xml"/><Relationship Id="rId3" Type="http://schemas.openxmlformats.org/officeDocument/2006/relationships/audio" Target="../media/cashreg.wav"/><Relationship Id="rId4" Type="http://schemas.openxmlformats.org/officeDocument/2006/relationships/audio" Target="../media/drumroll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C:\Documents and Settings\Administrator\&#26700;&#38754;\&#29677;&#20250;\&#26408;&#21280;&#30340;&#25151;&#23376;.pps" TargetMode="External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0" y="1523880"/>
            <a:ext cx="891540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</a:rPr>
              <a:t>把握现在 决胜未来</a:t>
            </a:r>
            <a:endParaRPr b="1" lang="en-US" sz="8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95" name=""/>
          <p:cNvSpPr/>
          <p:nvPr/>
        </p:nvSpPr>
        <p:spPr>
          <a:xfrm>
            <a:off x="1835280" y="5229360"/>
            <a:ext cx="1368360" cy="0"/>
          </a:xfrm>
          <a:prstGeom prst="line">
            <a:avLst/>
          </a:prstGeom>
          <a:ln w="34920">
            <a:solidFill>
              <a:srgbClr val="99cc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5877000"/>
            <a:ext cx="8893080" cy="691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三分天注定　七分靠打拼，沉下一颗心，以不变应万变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9280" y="260280"/>
            <a:ext cx="896472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耐得住寂寞，卧薪尝胆，就会苦尽甘来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5580000" y="4653000"/>
            <a:ext cx="1727280" cy="1523880"/>
          </a:xfrm>
          <a:prstGeom prst="rect">
            <a:avLst/>
          </a:prstGeom>
          <a:ln w="0">
            <a:noFill/>
          </a:ln>
        </p:spPr>
      </p:pic>
      <p:grpSp>
        <p:nvGrpSpPr>
          <p:cNvPr id="348" name=""/>
          <p:cNvGrpSpPr/>
          <p:nvPr/>
        </p:nvGrpSpPr>
        <p:grpSpPr>
          <a:xfrm>
            <a:off x="0" y="0"/>
            <a:ext cx="9144000" cy="6597720"/>
            <a:chOff x="0" y="0"/>
            <a:chExt cx="9144000" cy="6597720"/>
          </a:xfrm>
        </p:grpSpPr>
        <p:pic>
          <p:nvPicPr>
            <p:cNvPr id="349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5079960" cy="339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" descr=""/>
            <p:cNvPicPr/>
            <p:nvPr/>
          </p:nvPicPr>
          <p:blipFill>
            <a:blip r:embed="rId3"/>
            <a:stretch/>
          </p:blipFill>
          <p:spPr>
            <a:xfrm>
              <a:off x="0" y="3357720"/>
              <a:ext cx="4286160" cy="315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" descr=""/>
            <p:cNvPicPr/>
            <p:nvPr/>
          </p:nvPicPr>
          <p:blipFill>
            <a:blip r:embed="rId4"/>
            <a:stretch/>
          </p:blipFill>
          <p:spPr>
            <a:xfrm>
              <a:off x="4857840" y="0"/>
              <a:ext cx="428616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" name="" descr=""/>
            <p:cNvPicPr/>
            <p:nvPr/>
          </p:nvPicPr>
          <p:blipFill>
            <a:blip r:embed="rId5"/>
            <a:stretch/>
          </p:blipFill>
          <p:spPr>
            <a:xfrm>
              <a:off x="6516720" y="2637000"/>
              <a:ext cx="2627280" cy="158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" name="" descr=""/>
            <p:cNvPicPr/>
            <p:nvPr/>
          </p:nvPicPr>
          <p:blipFill>
            <a:blip r:embed="rId6"/>
            <a:stretch/>
          </p:blipFill>
          <p:spPr>
            <a:xfrm>
              <a:off x="4284720" y="4149720"/>
              <a:ext cx="4859280" cy="24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" name="" descr=""/>
            <p:cNvPicPr/>
            <p:nvPr/>
          </p:nvPicPr>
          <p:blipFill>
            <a:blip r:embed="rId7"/>
            <a:stretch/>
          </p:blipFill>
          <p:spPr>
            <a:xfrm>
              <a:off x="3059280" y="2205000"/>
              <a:ext cx="3454200" cy="194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5" name="">
            <a:hlinkClick r:id="rId8" action="ppaction://hlinksldjump"/>
          </p:cNvPr>
          <p:cNvSpPr/>
          <p:nvPr/>
        </p:nvSpPr>
        <p:spPr>
          <a:xfrm>
            <a:off x="8820000" y="6308640"/>
            <a:ext cx="324000" cy="289080"/>
          </a:xfrm>
          <a:custGeom>
            <a:avLst/>
            <a:gdLst>
              <a:gd name="textAreaLeft" fmla="*/ 18720 w 324000"/>
              <a:gd name="textAreaRight" fmla="*/ 305280 w 3240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4206" h="21600">
                <a:moveTo>
                  <a:pt x="0" y="0"/>
                </a:moveTo>
                <a:lnTo>
                  <a:pt x="24206" y="0"/>
                </a:lnTo>
                <a:lnTo>
                  <a:pt x="24206" y="21600"/>
                </a:lnTo>
                <a:lnTo>
                  <a:pt x="0" y="21600"/>
                </a:lnTo>
                <a:close/>
              </a:path>
              <a:path fill="lightenLess" w="24206" h="21600">
                <a:moveTo>
                  <a:pt x="0" y="0"/>
                </a:moveTo>
                <a:lnTo>
                  <a:pt x="24206" y="0"/>
                </a:lnTo>
                <a:lnTo>
                  <a:pt x="22806" y="1400"/>
                </a:lnTo>
                <a:lnTo>
                  <a:pt x="1400" y="1400"/>
                </a:lnTo>
                <a:close/>
              </a:path>
              <a:path fill="darken" w="24206" h="21600">
                <a:moveTo>
                  <a:pt x="24206" y="0"/>
                </a:moveTo>
                <a:lnTo>
                  <a:pt x="24206" y="21600"/>
                </a:lnTo>
                <a:lnTo>
                  <a:pt x="22806" y="20200"/>
                </a:lnTo>
                <a:lnTo>
                  <a:pt x="22806" y="1400"/>
                </a:lnTo>
                <a:close/>
              </a:path>
              <a:path fill="darkenLess" w="24206" h="21600">
                <a:moveTo>
                  <a:pt x="242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06" y="20200"/>
                </a:lnTo>
                <a:close/>
              </a:path>
              <a:path fill="lighten" w="242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06" h="21600">
                <a:moveTo>
                  <a:pt x="5097" y="3794"/>
                </a:moveTo>
                <a:lnTo>
                  <a:pt x="19109" y="10800"/>
                </a:lnTo>
                <a:lnTo>
                  <a:pt x="5097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-36360" y="333360"/>
            <a:ext cx="875160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9900"/>
                </a:solidFill>
                <a:latin typeface="Times New Roman"/>
                <a:ea typeface="黑体"/>
              </a:rPr>
              <a:t>抓住时间的窃贼</a:t>
            </a:r>
            <a:endParaRPr b="0" lang="en-US" sz="6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25280" y="1628640"/>
            <a:ext cx="8839440" cy="202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99ff"/>
                </a:solidFill>
                <a:latin typeface="Times New Roman"/>
                <a:ea typeface="楷体_GB2312"/>
              </a:rPr>
              <a:t>抓住它、制服它，它就向你进贡，给你知识、给你物质、给你财富。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99ff"/>
                </a:solidFill>
                <a:latin typeface="Times New Roman"/>
                <a:ea typeface="楷体_GB2312"/>
              </a:rPr>
              <a:t>放过它、屈服它，它就向你进攻，给你愚昧、给你贫困、给你痛苦、给你失望。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58" name="">
            <a:hlinkClick r:id="" action="ppaction://hlinkshowjump?jump=previousslide"/>
          </p:cNvPr>
          <p:cNvSpPr/>
          <p:nvPr/>
        </p:nvSpPr>
        <p:spPr>
          <a:xfrm>
            <a:off x="8532720" y="5950080"/>
            <a:ext cx="432000" cy="3585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6020" h="21600">
                <a:moveTo>
                  <a:pt x="0" y="0"/>
                </a:moveTo>
                <a:lnTo>
                  <a:pt x="26020" y="0"/>
                </a:lnTo>
                <a:lnTo>
                  <a:pt x="26020" y="21600"/>
                </a:lnTo>
                <a:lnTo>
                  <a:pt x="0" y="21600"/>
                </a:lnTo>
                <a:close/>
              </a:path>
              <a:path fill="lightenLess" w="26020" h="21600">
                <a:moveTo>
                  <a:pt x="0" y="0"/>
                </a:moveTo>
                <a:lnTo>
                  <a:pt x="26020" y="0"/>
                </a:lnTo>
                <a:lnTo>
                  <a:pt x="24620" y="1400"/>
                </a:lnTo>
                <a:lnTo>
                  <a:pt x="1400" y="1400"/>
                </a:lnTo>
                <a:close/>
              </a:path>
              <a:path fill="darken" w="26020" h="21600">
                <a:moveTo>
                  <a:pt x="26020" y="0"/>
                </a:moveTo>
                <a:lnTo>
                  <a:pt x="26020" y="21600"/>
                </a:lnTo>
                <a:lnTo>
                  <a:pt x="24620" y="20200"/>
                </a:lnTo>
                <a:lnTo>
                  <a:pt x="24620" y="1400"/>
                </a:lnTo>
                <a:close/>
              </a:path>
              <a:path fill="darkenLess" w="26020" h="21600">
                <a:moveTo>
                  <a:pt x="260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20" y="20200"/>
                </a:lnTo>
                <a:close/>
              </a:path>
              <a:path fill="lighten" w="260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20" h="21600">
                <a:moveTo>
                  <a:pt x="6003" y="10800"/>
                </a:moveTo>
                <a:lnTo>
                  <a:pt x="20016" y="3794"/>
                </a:lnTo>
                <a:lnTo>
                  <a:pt x="20016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539640" y="457200"/>
            <a:ext cx="8604360" cy="540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我就是八班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八班最棒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5000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95280" y="1700280"/>
            <a:ext cx="8280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从前有一位农场主，在大西洋岸边耕种一土地。他总是不断地张贴雇用人手的广告，可还是很少有人愿意到他的农场工作，因为大西洋上的风暴总是摧毁沿岸的建筑和庄稼。直到有一天，一个又矮又瘦的中年男子找到农场主应聘。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        “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你会是一个好帮手吗？”农场主问他。“这么说吧，即使是飓风来了，我都可以睡下。”应聘者得意的回答。虽然这听上去有点狂妄，农场主听了也有些怀疑，但是农场主还是雇用了这个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人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 ，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因为它太需要人手了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0160" y="189000"/>
            <a:ext cx="35334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风暴之夜你能否安眠？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50920" y="1557360"/>
            <a:ext cx="889308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cc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新来的长工把农场打扫得井井有条，每天从早忙到晚，农场主十分满意。不久后的一天晚上，狂风大作。农场主跳下来，抓起一盏提灯，急急忙忙地跑到隔壁长工睡觉的地方，使劲摇晃睡梦中的长工，大叫道：“快起来！暴风雨就要来了！在它卷走一切之前把东西都拴好！”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长工在床上不紧不慢地翻了个身，梦呓一样地说：“不，先生。我告诉你，当暴风雨来的时候，我也能睡着。”农场主被他的回答气坏了，真想当场把他解雇了。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66ccff"/>
                </a:solidFill>
                <a:latin typeface="楷体_GB2312"/>
                <a:ea typeface="楷体_GB2312"/>
              </a:rPr>
              <a:t>　</a:t>
            </a:r>
            <a:r>
              <a:rPr b="1" lang="zh-CN" sz="3600" spc="-1" strike="noStrike">
                <a:solidFill>
                  <a:srgbClr val="66ccff"/>
                </a:solidFill>
                <a:latin typeface="楷体_GB2312"/>
                <a:ea typeface="楷体_GB2312"/>
              </a:rPr>
              <a:t>　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189000"/>
            <a:ext cx="597528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风暴之夜你能否安眠？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298520" y="189000"/>
            <a:ext cx="35334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风暴之夜你能否安眠？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557360"/>
            <a:ext cx="9144000" cy="482436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农场主强压着火气，赶忙跑到外面，一个人为      即将到来的暴风雨做准备，不过令他吃惊的是，他发现所有的干草堆都已被盖上了焦油防水布，牛在棚里，鸡在笼中，所有的房间门窗紧闭，每件东西都被拴的结结实实，没有什么能被风吹走。农场主这时才明白长工的话是什么意思。</a:t>
            </a:r>
            <a:r>
              <a:rPr b="1" lang="zh-CN" sz="32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ccffff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50920" y="0"/>
            <a:ext cx="2449440" cy="14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38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秘诀</a:t>
            </a:r>
            <a:endParaRPr b="0" lang="en-US" sz="60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79280" y="1916280"/>
            <a:ext cx="8713800" cy="381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成功属于提前做好准备的人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11280" y="765000"/>
            <a:ext cx="835164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     </a:t>
            </a:r>
            <a:r>
              <a:rPr b="0" lang="zh-CN" sz="54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亲爱的同学们，一学期的高中生活即将结束，你觉得自己学的怎么样呢？</a:t>
            </a:r>
            <a:r>
              <a:rPr b="1" lang="zh-CN" sz="54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 </a:t>
            </a:r>
            <a:r>
              <a:rPr b="0" lang="zh-CN" sz="54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期末考试即将到来，你们开始准备了吗？</a:t>
            </a:r>
            <a:endParaRPr b="0" lang="en-US" sz="5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332000" y="333360"/>
            <a:ext cx="4511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</a:rPr>
              <a:t>学习成功的</a:t>
            </a:r>
            <a:endParaRPr b="0" lang="en-US" sz="6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791320" y="838080"/>
            <a:ext cx="22860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38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秘诀</a:t>
            </a:r>
            <a:endParaRPr b="0" lang="en-US" sz="24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9" name=""/>
          <p:cNvSpPr/>
          <p:nvPr/>
        </p:nvSpPr>
        <p:spPr>
          <a:xfrm>
            <a:off x="2152800" y="234936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66b1b"/>
                </a:solidFill>
                <a:latin typeface="Arial Black"/>
                <a:ea typeface="楷体_GB2312"/>
              </a:rPr>
              <a:t>爱因斯坦的成功式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07440" y="3581280"/>
            <a:ext cx="398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66b1b"/>
                </a:solidFill>
                <a:latin typeface="Times New Roman"/>
              </a:rPr>
              <a:t>A =   X +  Y + Z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355840" y="4419720"/>
            <a:ext cx="0" cy="533160"/>
          </a:xfrm>
          <a:prstGeom prst="line">
            <a:avLst/>
          </a:prstGeom>
          <a:ln cap="sq" w="28440">
            <a:solidFill>
              <a:srgbClr val="366b1b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51120" y="4419720"/>
            <a:ext cx="0" cy="533160"/>
          </a:xfrm>
          <a:prstGeom prst="line">
            <a:avLst/>
          </a:prstGeom>
          <a:ln cap="sq" w="28440">
            <a:solidFill>
              <a:srgbClr val="366b1b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794120" y="4419720"/>
            <a:ext cx="0" cy="533160"/>
          </a:xfrm>
          <a:prstGeom prst="line">
            <a:avLst/>
          </a:prstGeom>
          <a:ln cap="sq" w="28440">
            <a:solidFill>
              <a:srgbClr val="366b1b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65720" y="3962520"/>
            <a:ext cx="533520" cy="0"/>
          </a:xfrm>
          <a:prstGeom prst="line">
            <a:avLst/>
          </a:prstGeom>
          <a:ln cap="sq" w="28440">
            <a:solidFill>
              <a:srgbClr val="366b1b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494172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bae6c"/>
                </a:solidFill>
                <a:latin typeface="楷体_GB2312"/>
                <a:ea typeface="楷体_GB2312"/>
              </a:rPr>
              <a:t>成 功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32000" y="4941720"/>
            <a:ext cx="11890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808000"/>
                </a:solidFill>
                <a:uFillTx/>
                <a:latin typeface="楷体_GB2312"/>
                <a:ea typeface="楷体_GB2312"/>
                <a:hlinkClick r:id="rId1" action="ppaction://hlinksldjump"/>
              </a:rPr>
              <a:t>勤奋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27640" y="494172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正确的方法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743880" y="3681360"/>
            <a:ext cx="207612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808000"/>
                </a:solidFill>
                <a:uFillTx/>
                <a:latin typeface="楷体_GB2312"/>
                <a:ea typeface="楷体_GB2312"/>
                <a:hlinkClick r:id="rId2" action="ppaction://hlinksldjump"/>
              </a:rPr>
              <a:t>抓住时间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5000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36960" y="189000"/>
            <a:ext cx="118656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誓言：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3385080"/>
            <a:ext cx="8964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        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在这临近考试的最后的一个月内，我决心：克服艰苦，排除万难。面对考试，沉着冷静；面对作业，不叫苦累；认真完成，吸收经验；面对老师，大胆请教；面对同学，互相督促。以沉着的心态，坚定的信念，迎接每一天的挑战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! 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向着高考，我们奋斗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!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1" name="">
            <a:hlinkClick r:id="rId1"/>
          </p:cNvPr>
          <p:cNvSpPr/>
          <p:nvPr/>
        </p:nvSpPr>
        <p:spPr>
          <a:xfrm>
            <a:off x="8459640" y="6021360"/>
            <a:ext cx="684360" cy="360360"/>
          </a:xfrm>
          <a:custGeom>
            <a:avLst/>
            <a:gdLst>
              <a:gd name="textAreaLeft" fmla="*/ 23040 w 684360"/>
              <a:gd name="textAreaRight" fmla="*/ 661320 w 684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1001" h="21600">
                <a:moveTo>
                  <a:pt x="0" y="0"/>
                </a:moveTo>
                <a:lnTo>
                  <a:pt x="41001" y="0"/>
                </a:lnTo>
                <a:lnTo>
                  <a:pt x="41001" y="21600"/>
                </a:lnTo>
                <a:lnTo>
                  <a:pt x="0" y="21600"/>
                </a:lnTo>
                <a:close/>
              </a:path>
              <a:path fill="lightenLess" w="41001" h="21600">
                <a:moveTo>
                  <a:pt x="0" y="0"/>
                </a:moveTo>
                <a:lnTo>
                  <a:pt x="41001" y="0"/>
                </a:lnTo>
                <a:lnTo>
                  <a:pt x="39601" y="1400"/>
                </a:lnTo>
                <a:lnTo>
                  <a:pt x="1400" y="1400"/>
                </a:lnTo>
                <a:close/>
              </a:path>
              <a:path fill="darken" w="41001" h="21600">
                <a:moveTo>
                  <a:pt x="41001" y="0"/>
                </a:moveTo>
                <a:lnTo>
                  <a:pt x="41001" y="21600"/>
                </a:lnTo>
                <a:lnTo>
                  <a:pt x="39601" y="20200"/>
                </a:lnTo>
                <a:lnTo>
                  <a:pt x="39601" y="1400"/>
                </a:lnTo>
                <a:close/>
              </a:path>
              <a:path fill="darkenLess" w="41001" h="21600">
                <a:moveTo>
                  <a:pt x="410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01" y="20200"/>
                </a:lnTo>
                <a:close/>
              </a:path>
              <a:path fill="lighten" w="410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001" h="21600">
                <a:moveTo>
                  <a:pt x="20501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1001" h="21600">
                <a:moveTo>
                  <a:pt x="20501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1001" h="21600">
                <a:moveTo>
                  <a:pt x="17924" y="8224"/>
                </a:moveTo>
                <a:lnTo>
                  <a:pt x="21789" y="8224"/>
                </a:lnTo>
                <a:lnTo>
                  <a:pt x="21789" y="15221"/>
                </a:lnTo>
                <a:lnTo>
                  <a:pt x="23077" y="15221"/>
                </a:lnTo>
                <a:lnTo>
                  <a:pt x="23077" y="16144"/>
                </a:lnTo>
                <a:lnTo>
                  <a:pt x="17924" y="16144"/>
                </a:lnTo>
                <a:lnTo>
                  <a:pt x="17924" y="15221"/>
                </a:lnTo>
                <a:lnTo>
                  <a:pt x="19212" y="15221"/>
                </a:lnTo>
                <a:lnTo>
                  <a:pt x="19212" y="9129"/>
                </a:lnTo>
                <a:lnTo>
                  <a:pt x="17924" y="9129"/>
                </a:lnTo>
                <a:close/>
              </a:path>
            </a:pathLst>
          </a:custGeom>
          <a:solidFill>
            <a:srgbClr val="366b1b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2" name="">
            <a:hlinkClick r:id="rId2" action="ppaction://hlinksldjump"/>
          </p:cNvPr>
          <p:cNvSpPr/>
          <p:nvPr/>
        </p:nvSpPr>
        <p:spPr>
          <a:xfrm>
            <a:off x="0" y="6093000"/>
            <a:ext cx="755640" cy="288720"/>
          </a:xfrm>
          <a:custGeom>
            <a:avLst/>
            <a:gdLst>
              <a:gd name="textAreaLeft" fmla="*/ 18720 w 755640"/>
              <a:gd name="textAreaRight" fmla="*/ 736920 w 755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56488" h="21600">
                <a:moveTo>
                  <a:pt x="0" y="0"/>
                </a:moveTo>
                <a:lnTo>
                  <a:pt x="56488" y="0"/>
                </a:lnTo>
                <a:lnTo>
                  <a:pt x="56488" y="21600"/>
                </a:lnTo>
                <a:lnTo>
                  <a:pt x="0" y="21600"/>
                </a:lnTo>
                <a:close/>
              </a:path>
              <a:path fill="lightenLess" w="56488" h="21600">
                <a:moveTo>
                  <a:pt x="0" y="0"/>
                </a:moveTo>
                <a:lnTo>
                  <a:pt x="56488" y="0"/>
                </a:lnTo>
                <a:lnTo>
                  <a:pt x="55088" y="1400"/>
                </a:lnTo>
                <a:lnTo>
                  <a:pt x="1400" y="1400"/>
                </a:lnTo>
                <a:close/>
              </a:path>
              <a:path fill="darken" w="56488" h="21600">
                <a:moveTo>
                  <a:pt x="56488" y="0"/>
                </a:moveTo>
                <a:lnTo>
                  <a:pt x="56488" y="21600"/>
                </a:lnTo>
                <a:lnTo>
                  <a:pt x="55088" y="20200"/>
                </a:lnTo>
                <a:lnTo>
                  <a:pt x="55088" y="1400"/>
                </a:lnTo>
                <a:close/>
              </a:path>
              <a:path fill="darkenLess" w="56488" h="21600">
                <a:moveTo>
                  <a:pt x="564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088" y="20200"/>
                </a:lnTo>
                <a:close/>
              </a:path>
              <a:path fill="lighten" w="564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488" h="21600">
                <a:moveTo>
                  <a:pt x="21238" y="3794"/>
                </a:moveTo>
                <a:lnTo>
                  <a:pt x="35251" y="10800"/>
                </a:lnTo>
                <a:lnTo>
                  <a:pt x="21238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95280" y="333360"/>
            <a:ext cx="900108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9900"/>
                </a:solidFill>
                <a:latin typeface="Times New Roman"/>
                <a:ea typeface="黑体"/>
              </a:rPr>
              <a:t>改变坏习惯、坏思想</a:t>
            </a:r>
            <a:endParaRPr b="0" lang="en-US" sz="60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132000" y="4221000"/>
            <a:ext cx="3319560" cy="885960"/>
            <a:chOff x="3132000" y="4221000"/>
            <a:chExt cx="3319560" cy="885960"/>
          </a:xfrm>
        </p:grpSpPr>
        <p:sp>
          <p:nvSpPr>
            <p:cNvPr id="125" name=""/>
            <p:cNvSpPr/>
            <p:nvPr/>
          </p:nvSpPr>
          <p:spPr>
            <a:xfrm>
              <a:off x="3132000" y="4221000"/>
              <a:ext cx="3319560" cy="885960"/>
            </a:xfrm>
            <a:custGeom>
              <a:avLst/>
              <a:gdLst/>
              <a:ahLst/>
              <a:rect l="l" t="t" r="r" b="b"/>
              <a:pathLst>
                <a:path w="2091" h="1086">
                  <a:moveTo>
                    <a:pt x="0" y="1086"/>
                  </a:moveTo>
                  <a:lnTo>
                    <a:pt x="96" y="947"/>
                  </a:lnTo>
                  <a:lnTo>
                    <a:pt x="217" y="839"/>
                  </a:lnTo>
                  <a:lnTo>
                    <a:pt x="351" y="801"/>
                  </a:lnTo>
                  <a:lnTo>
                    <a:pt x="389" y="659"/>
                  </a:lnTo>
                  <a:lnTo>
                    <a:pt x="503" y="543"/>
                  </a:lnTo>
                  <a:lnTo>
                    <a:pt x="656" y="543"/>
                  </a:lnTo>
                  <a:lnTo>
                    <a:pt x="731" y="492"/>
                  </a:lnTo>
                  <a:lnTo>
                    <a:pt x="782" y="364"/>
                  </a:lnTo>
                  <a:lnTo>
                    <a:pt x="898" y="225"/>
                  </a:lnTo>
                  <a:lnTo>
                    <a:pt x="960" y="32"/>
                  </a:lnTo>
                  <a:lnTo>
                    <a:pt x="1075" y="57"/>
                  </a:lnTo>
                  <a:lnTo>
                    <a:pt x="1209" y="0"/>
                  </a:lnTo>
                  <a:lnTo>
                    <a:pt x="1247" y="70"/>
                  </a:lnTo>
                  <a:lnTo>
                    <a:pt x="1320" y="123"/>
                  </a:lnTo>
                  <a:lnTo>
                    <a:pt x="1382" y="264"/>
                  </a:lnTo>
                  <a:lnTo>
                    <a:pt x="1507" y="343"/>
                  </a:lnTo>
                  <a:lnTo>
                    <a:pt x="1570" y="485"/>
                  </a:lnTo>
                  <a:lnTo>
                    <a:pt x="1709" y="562"/>
                  </a:lnTo>
                  <a:lnTo>
                    <a:pt x="1741" y="735"/>
                  </a:lnTo>
                  <a:lnTo>
                    <a:pt x="1997" y="921"/>
                  </a:lnTo>
                  <a:lnTo>
                    <a:pt x="2091" y="1086"/>
                  </a:lnTo>
                  <a:lnTo>
                    <a:pt x="0" y="1086"/>
                  </a:lnTo>
                  <a:close/>
                </a:path>
              </a:pathLst>
            </a:custGeom>
            <a:solidFill>
              <a:srgbClr val="a0a0a0">
                <a:alpha val="50000"/>
              </a:srgbClr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5127480" y="4319280"/>
              <a:ext cx="768240" cy="614880"/>
              <a:chOff x="5127480" y="4319280"/>
              <a:chExt cx="768240" cy="614880"/>
            </a:xfrm>
          </p:grpSpPr>
          <p:sp>
            <p:nvSpPr>
              <p:cNvPr id="127" name=""/>
              <p:cNvSpPr/>
              <p:nvPr/>
            </p:nvSpPr>
            <p:spPr>
              <a:xfrm>
                <a:off x="5127480" y="4319280"/>
                <a:ext cx="222120" cy="205560"/>
              </a:xfrm>
              <a:custGeom>
                <a:avLst/>
                <a:gdLst/>
                <a:ahLst/>
                <a:rect l="l" t="t" r="r" b="b"/>
                <a:pathLst>
                  <a:path w="140" h="252">
                    <a:moveTo>
                      <a:pt x="63" y="0"/>
                    </a:moveTo>
                    <a:lnTo>
                      <a:pt x="46" y="95"/>
                    </a:lnTo>
                    <a:lnTo>
                      <a:pt x="63" y="142"/>
                    </a:lnTo>
                    <a:lnTo>
                      <a:pt x="16" y="189"/>
                    </a:lnTo>
                    <a:lnTo>
                      <a:pt x="0" y="252"/>
                    </a:lnTo>
                    <a:lnTo>
                      <a:pt x="77" y="235"/>
                    </a:lnTo>
                    <a:lnTo>
                      <a:pt x="77" y="205"/>
                    </a:lnTo>
                    <a:lnTo>
                      <a:pt x="140" y="235"/>
                    </a:lnTo>
                    <a:lnTo>
                      <a:pt x="125" y="142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808080">
                  <a:alpha val="5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276880" y="4497120"/>
                <a:ext cx="347400" cy="232560"/>
              </a:xfrm>
              <a:custGeom>
                <a:avLst/>
                <a:gdLst/>
                <a:ahLst/>
                <a:rect l="l" t="t" r="r" b="b"/>
                <a:pathLst>
                  <a:path w="219" h="285">
                    <a:moveTo>
                      <a:pt x="156" y="0"/>
                    </a:moveTo>
                    <a:lnTo>
                      <a:pt x="219" y="143"/>
                    </a:lnTo>
                    <a:lnTo>
                      <a:pt x="156" y="159"/>
                    </a:lnTo>
                    <a:lnTo>
                      <a:pt x="94" y="237"/>
                    </a:lnTo>
                    <a:lnTo>
                      <a:pt x="46" y="191"/>
                    </a:lnTo>
                    <a:lnTo>
                      <a:pt x="0" y="285"/>
                    </a:lnTo>
                    <a:lnTo>
                      <a:pt x="0" y="143"/>
                    </a:lnTo>
                    <a:lnTo>
                      <a:pt x="94" y="128"/>
                    </a:lnTo>
                    <a:lnTo>
                      <a:pt x="109" y="34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808080">
                  <a:alpha val="5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549760" y="4678200"/>
                <a:ext cx="345960" cy="255960"/>
              </a:xfrm>
              <a:custGeom>
                <a:avLst/>
                <a:gdLst/>
                <a:ahLst/>
                <a:rect l="l" t="t" r="r" b="b"/>
                <a:pathLst>
                  <a:path w="218" h="314">
                    <a:moveTo>
                      <a:pt x="186" y="0"/>
                    </a:moveTo>
                    <a:lnTo>
                      <a:pt x="93" y="31"/>
                    </a:lnTo>
                    <a:lnTo>
                      <a:pt x="93" y="142"/>
                    </a:lnTo>
                    <a:lnTo>
                      <a:pt x="30" y="126"/>
                    </a:lnTo>
                    <a:lnTo>
                      <a:pt x="0" y="219"/>
                    </a:lnTo>
                    <a:lnTo>
                      <a:pt x="78" y="236"/>
                    </a:lnTo>
                    <a:lnTo>
                      <a:pt x="123" y="314"/>
                    </a:lnTo>
                    <a:lnTo>
                      <a:pt x="172" y="219"/>
                    </a:lnTo>
                    <a:lnTo>
                      <a:pt x="218" y="254"/>
                    </a:lnTo>
                    <a:lnTo>
                      <a:pt x="218" y="174"/>
                    </a:lnTo>
                    <a:lnTo>
                      <a:pt x="186" y="0"/>
                    </a:lnTo>
                    <a:close/>
                  </a:path>
                </a:pathLst>
              </a:custGeom>
              <a:solidFill>
                <a:srgbClr val="808080">
                  <a:alpha val="5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2700360" y="3716280"/>
            <a:ext cx="4123800" cy="1419120"/>
            <a:chOff x="2700360" y="3716280"/>
            <a:chExt cx="4123800" cy="1419120"/>
          </a:xfrm>
        </p:grpSpPr>
        <p:sp>
          <p:nvSpPr>
            <p:cNvPr id="131" name=""/>
            <p:cNvSpPr/>
            <p:nvPr/>
          </p:nvSpPr>
          <p:spPr>
            <a:xfrm>
              <a:off x="2700360" y="3716280"/>
              <a:ext cx="4123800" cy="1419120"/>
            </a:xfrm>
            <a:custGeom>
              <a:avLst/>
              <a:gdLst/>
              <a:ahLst/>
              <a:rect l="l" t="t" r="r" b="b"/>
              <a:pathLst>
                <a:path w="2091" h="1086">
                  <a:moveTo>
                    <a:pt x="0" y="1086"/>
                  </a:moveTo>
                  <a:lnTo>
                    <a:pt x="96" y="947"/>
                  </a:lnTo>
                  <a:lnTo>
                    <a:pt x="217" y="839"/>
                  </a:lnTo>
                  <a:lnTo>
                    <a:pt x="351" y="801"/>
                  </a:lnTo>
                  <a:lnTo>
                    <a:pt x="389" y="659"/>
                  </a:lnTo>
                  <a:lnTo>
                    <a:pt x="503" y="543"/>
                  </a:lnTo>
                  <a:lnTo>
                    <a:pt x="656" y="543"/>
                  </a:lnTo>
                  <a:lnTo>
                    <a:pt x="731" y="492"/>
                  </a:lnTo>
                  <a:lnTo>
                    <a:pt x="782" y="364"/>
                  </a:lnTo>
                  <a:lnTo>
                    <a:pt x="898" y="225"/>
                  </a:lnTo>
                  <a:lnTo>
                    <a:pt x="960" y="32"/>
                  </a:lnTo>
                  <a:lnTo>
                    <a:pt x="1075" y="57"/>
                  </a:lnTo>
                  <a:lnTo>
                    <a:pt x="1209" y="0"/>
                  </a:lnTo>
                  <a:lnTo>
                    <a:pt x="1247" y="70"/>
                  </a:lnTo>
                  <a:lnTo>
                    <a:pt x="1320" y="123"/>
                  </a:lnTo>
                  <a:lnTo>
                    <a:pt x="1382" y="264"/>
                  </a:lnTo>
                  <a:lnTo>
                    <a:pt x="1507" y="343"/>
                  </a:lnTo>
                  <a:lnTo>
                    <a:pt x="1570" y="485"/>
                  </a:lnTo>
                  <a:lnTo>
                    <a:pt x="1709" y="562"/>
                  </a:lnTo>
                  <a:lnTo>
                    <a:pt x="1741" y="735"/>
                  </a:lnTo>
                  <a:lnTo>
                    <a:pt x="1997" y="921"/>
                  </a:lnTo>
                  <a:lnTo>
                    <a:pt x="2091" y="1086"/>
                  </a:lnTo>
                  <a:lnTo>
                    <a:pt x="0" y="1086"/>
                  </a:lnTo>
                  <a:close/>
                </a:path>
              </a:pathLst>
            </a:custGeom>
            <a:solidFill>
              <a:srgbClr val="a0a0a0">
                <a:alpha val="50000"/>
              </a:srgbClr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5179320" y="3873960"/>
              <a:ext cx="954000" cy="984960"/>
              <a:chOff x="5179320" y="3873960"/>
              <a:chExt cx="954000" cy="984960"/>
            </a:xfrm>
          </p:grpSpPr>
          <p:sp>
            <p:nvSpPr>
              <p:cNvPr id="133" name=""/>
              <p:cNvSpPr/>
              <p:nvPr/>
            </p:nvSpPr>
            <p:spPr>
              <a:xfrm>
                <a:off x="5179320" y="3873960"/>
                <a:ext cx="275760" cy="329400"/>
              </a:xfrm>
              <a:custGeom>
                <a:avLst/>
                <a:gdLst/>
                <a:ahLst/>
                <a:rect l="l" t="t" r="r" b="b"/>
                <a:pathLst>
                  <a:path w="140" h="252">
                    <a:moveTo>
                      <a:pt x="63" y="0"/>
                    </a:moveTo>
                    <a:lnTo>
                      <a:pt x="46" y="95"/>
                    </a:lnTo>
                    <a:lnTo>
                      <a:pt x="63" y="142"/>
                    </a:lnTo>
                    <a:lnTo>
                      <a:pt x="16" y="189"/>
                    </a:lnTo>
                    <a:lnTo>
                      <a:pt x="0" y="252"/>
                    </a:lnTo>
                    <a:lnTo>
                      <a:pt x="77" y="235"/>
                    </a:lnTo>
                    <a:lnTo>
                      <a:pt x="77" y="205"/>
                    </a:lnTo>
                    <a:lnTo>
                      <a:pt x="140" y="235"/>
                    </a:lnTo>
                    <a:lnTo>
                      <a:pt x="125" y="142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808080">
                  <a:alpha val="5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364720" y="4158720"/>
                <a:ext cx="431280" cy="372240"/>
              </a:xfrm>
              <a:custGeom>
                <a:avLst/>
                <a:gdLst/>
                <a:ahLst/>
                <a:rect l="l" t="t" r="r" b="b"/>
                <a:pathLst>
                  <a:path w="219" h="285">
                    <a:moveTo>
                      <a:pt x="156" y="0"/>
                    </a:moveTo>
                    <a:lnTo>
                      <a:pt x="219" y="143"/>
                    </a:lnTo>
                    <a:lnTo>
                      <a:pt x="156" y="159"/>
                    </a:lnTo>
                    <a:lnTo>
                      <a:pt x="94" y="237"/>
                    </a:lnTo>
                    <a:lnTo>
                      <a:pt x="46" y="191"/>
                    </a:lnTo>
                    <a:lnTo>
                      <a:pt x="0" y="285"/>
                    </a:lnTo>
                    <a:lnTo>
                      <a:pt x="0" y="143"/>
                    </a:lnTo>
                    <a:lnTo>
                      <a:pt x="94" y="128"/>
                    </a:lnTo>
                    <a:lnTo>
                      <a:pt x="109" y="34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808080">
                  <a:alpha val="5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703840" y="4448880"/>
                <a:ext cx="429480" cy="410040"/>
              </a:xfrm>
              <a:custGeom>
                <a:avLst/>
                <a:gdLst/>
                <a:ahLst/>
                <a:rect l="l" t="t" r="r" b="b"/>
                <a:pathLst>
                  <a:path w="218" h="314">
                    <a:moveTo>
                      <a:pt x="186" y="0"/>
                    </a:moveTo>
                    <a:lnTo>
                      <a:pt x="93" y="31"/>
                    </a:lnTo>
                    <a:lnTo>
                      <a:pt x="93" y="142"/>
                    </a:lnTo>
                    <a:lnTo>
                      <a:pt x="30" y="126"/>
                    </a:lnTo>
                    <a:lnTo>
                      <a:pt x="0" y="219"/>
                    </a:lnTo>
                    <a:lnTo>
                      <a:pt x="78" y="236"/>
                    </a:lnTo>
                    <a:lnTo>
                      <a:pt x="123" y="314"/>
                    </a:lnTo>
                    <a:lnTo>
                      <a:pt x="172" y="219"/>
                    </a:lnTo>
                    <a:lnTo>
                      <a:pt x="218" y="254"/>
                    </a:lnTo>
                    <a:lnTo>
                      <a:pt x="218" y="174"/>
                    </a:lnTo>
                    <a:lnTo>
                      <a:pt x="186" y="0"/>
                    </a:lnTo>
                    <a:close/>
                  </a:path>
                </a:pathLst>
              </a:custGeom>
              <a:solidFill>
                <a:srgbClr val="808080">
                  <a:alpha val="5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6" name=""/>
          <p:cNvGrpSpPr/>
          <p:nvPr/>
        </p:nvGrpSpPr>
        <p:grpSpPr>
          <a:xfrm>
            <a:off x="2556000" y="3141720"/>
            <a:ext cx="4385880" cy="2028240"/>
            <a:chOff x="2556000" y="3141720"/>
            <a:chExt cx="4385880" cy="2028240"/>
          </a:xfrm>
        </p:grpSpPr>
        <p:sp>
          <p:nvSpPr>
            <p:cNvPr id="137" name=""/>
            <p:cNvSpPr/>
            <p:nvPr/>
          </p:nvSpPr>
          <p:spPr>
            <a:xfrm>
              <a:off x="2556000" y="3141720"/>
              <a:ext cx="4385880" cy="2028240"/>
            </a:xfrm>
            <a:custGeom>
              <a:avLst/>
              <a:gdLst/>
              <a:ahLst/>
              <a:rect l="l" t="t" r="r" b="b"/>
              <a:pathLst>
                <a:path w="2091" h="1086">
                  <a:moveTo>
                    <a:pt x="0" y="1086"/>
                  </a:moveTo>
                  <a:lnTo>
                    <a:pt x="96" y="947"/>
                  </a:lnTo>
                  <a:lnTo>
                    <a:pt x="217" y="839"/>
                  </a:lnTo>
                  <a:lnTo>
                    <a:pt x="351" y="801"/>
                  </a:lnTo>
                  <a:lnTo>
                    <a:pt x="389" y="659"/>
                  </a:lnTo>
                  <a:lnTo>
                    <a:pt x="503" y="543"/>
                  </a:lnTo>
                  <a:lnTo>
                    <a:pt x="656" y="543"/>
                  </a:lnTo>
                  <a:lnTo>
                    <a:pt x="731" y="492"/>
                  </a:lnTo>
                  <a:lnTo>
                    <a:pt x="782" y="364"/>
                  </a:lnTo>
                  <a:lnTo>
                    <a:pt x="898" y="225"/>
                  </a:lnTo>
                  <a:lnTo>
                    <a:pt x="960" y="32"/>
                  </a:lnTo>
                  <a:lnTo>
                    <a:pt x="1075" y="57"/>
                  </a:lnTo>
                  <a:lnTo>
                    <a:pt x="1209" y="0"/>
                  </a:lnTo>
                  <a:lnTo>
                    <a:pt x="1247" y="70"/>
                  </a:lnTo>
                  <a:lnTo>
                    <a:pt x="1320" y="123"/>
                  </a:lnTo>
                  <a:lnTo>
                    <a:pt x="1382" y="264"/>
                  </a:lnTo>
                  <a:lnTo>
                    <a:pt x="1507" y="343"/>
                  </a:lnTo>
                  <a:lnTo>
                    <a:pt x="1570" y="485"/>
                  </a:lnTo>
                  <a:lnTo>
                    <a:pt x="1709" y="562"/>
                  </a:lnTo>
                  <a:lnTo>
                    <a:pt x="1741" y="735"/>
                  </a:lnTo>
                  <a:lnTo>
                    <a:pt x="1997" y="921"/>
                  </a:lnTo>
                  <a:lnTo>
                    <a:pt x="2091" y="1086"/>
                  </a:lnTo>
                  <a:lnTo>
                    <a:pt x="0" y="1086"/>
                  </a:lnTo>
                  <a:close/>
                </a:path>
              </a:pathLst>
            </a:custGeom>
            <a:solidFill>
              <a:srgbClr val="a0a0a0">
                <a:alpha val="50000"/>
              </a:srgbClr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5192280" y="3367440"/>
              <a:ext cx="1014480" cy="1407960"/>
              <a:chOff x="5192280" y="3367440"/>
              <a:chExt cx="1014480" cy="1407960"/>
            </a:xfrm>
          </p:grpSpPr>
          <p:sp>
            <p:nvSpPr>
              <p:cNvPr id="139" name=""/>
              <p:cNvSpPr/>
              <p:nvPr/>
            </p:nvSpPr>
            <p:spPr>
              <a:xfrm>
                <a:off x="5192280" y="3367440"/>
                <a:ext cx="293040" cy="470880"/>
              </a:xfrm>
              <a:custGeom>
                <a:avLst/>
                <a:gdLst/>
                <a:ahLst/>
                <a:rect l="l" t="t" r="r" b="b"/>
                <a:pathLst>
                  <a:path w="140" h="252">
                    <a:moveTo>
                      <a:pt x="63" y="0"/>
                    </a:moveTo>
                    <a:lnTo>
                      <a:pt x="46" y="95"/>
                    </a:lnTo>
                    <a:lnTo>
                      <a:pt x="63" y="142"/>
                    </a:lnTo>
                    <a:lnTo>
                      <a:pt x="16" y="189"/>
                    </a:lnTo>
                    <a:lnTo>
                      <a:pt x="0" y="252"/>
                    </a:lnTo>
                    <a:lnTo>
                      <a:pt x="77" y="235"/>
                    </a:lnTo>
                    <a:lnTo>
                      <a:pt x="77" y="205"/>
                    </a:lnTo>
                    <a:lnTo>
                      <a:pt x="140" y="235"/>
                    </a:lnTo>
                    <a:lnTo>
                      <a:pt x="125" y="142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808080">
                  <a:alpha val="5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389560" y="3774600"/>
                <a:ext cx="458640" cy="532080"/>
              </a:xfrm>
              <a:custGeom>
                <a:avLst/>
                <a:gdLst/>
                <a:ahLst/>
                <a:rect l="l" t="t" r="r" b="b"/>
                <a:pathLst>
                  <a:path w="219" h="285">
                    <a:moveTo>
                      <a:pt x="156" y="0"/>
                    </a:moveTo>
                    <a:lnTo>
                      <a:pt x="219" y="143"/>
                    </a:lnTo>
                    <a:lnTo>
                      <a:pt x="156" y="159"/>
                    </a:lnTo>
                    <a:lnTo>
                      <a:pt x="94" y="237"/>
                    </a:lnTo>
                    <a:lnTo>
                      <a:pt x="46" y="191"/>
                    </a:lnTo>
                    <a:lnTo>
                      <a:pt x="0" y="285"/>
                    </a:lnTo>
                    <a:lnTo>
                      <a:pt x="0" y="143"/>
                    </a:lnTo>
                    <a:lnTo>
                      <a:pt x="94" y="128"/>
                    </a:lnTo>
                    <a:lnTo>
                      <a:pt x="109" y="34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808080">
                  <a:alpha val="5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749920" y="4189320"/>
                <a:ext cx="456840" cy="586080"/>
              </a:xfrm>
              <a:custGeom>
                <a:avLst/>
                <a:gdLst/>
                <a:ahLst/>
                <a:rect l="l" t="t" r="r" b="b"/>
                <a:pathLst>
                  <a:path w="218" h="314">
                    <a:moveTo>
                      <a:pt x="186" y="0"/>
                    </a:moveTo>
                    <a:lnTo>
                      <a:pt x="93" y="31"/>
                    </a:lnTo>
                    <a:lnTo>
                      <a:pt x="93" y="142"/>
                    </a:lnTo>
                    <a:lnTo>
                      <a:pt x="30" y="126"/>
                    </a:lnTo>
                    <a:lnTo>
                      <a:pt x="0" y="219"/>
                    </a:lnTo>
                    <a:lnTo>
                      <a:pt x="78" y="236"/>
                    </a:lnTo>
                    <a:lnTo>
                      <a:pt x="123" y="314"/>
                    </a:lnTo>
                    <a:lnTo>
                      <a:pt x="172" y="219"/>
                    </a:lnTo>
                    <a:lnTo>
                      <a:pt x="218" y="254"/>
                    </a:lnTo>
                    <a:lnTo>
                      <a:pt x="218" y="174"/>
                    </a:lnTo>
                    <a:lnTo>
                      <a:pt x="186" y="0"/>
                    </a:lnTo>
                    <a:close/>
                  </a:path>
                </a:pathLst>
              </a:custGeom>
              <a:solidFill>
                <a:srgbClr val="808080">
                  <a:alpha val="5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2" name=""/>
          <p:cNvGrpSpPr/>
          <p:nvPr/>
        </p:nvGrpSpPr>
        <p:grpSpPr>
          <a:xfrm>
            <a:off x="2484360" y="2276640"/>
            <a:ext cx="4538520" cy="2866680"/>
            <a:chOff x="2484360" y="2276640"/>
            <a:chExt cx="4538520" cy="2866680"/>
          </a:xfrm>
        </p:grpSpPr>
        <p:sp>
          <p:nvSpPr>
            <p:cNvPr id="143" name=""/>
            <p:cNvSpPr/>
            <p:nvPr/>
          </p:nvSpPr>
          <p:spPr>
            <a:xfrm>
              <a:off x="2484360" y="2276640"/>
              <a:ext cx="4538520" cy="2866680"/>
            </a:xfrm>
            <a:custGeom>
              <a:avLst/>
              <a:gdLst/>
              <a:ahLst/>
              <a:rect l="l" t="t" r="r" b="b"/>
              <a:pathLst>
                <a:path w="2091" h="1086">
                  <a:moveTo>
                    <a:pt x="0" y="1086"/>
                  </a:moveTo>
                  <a:lnTo>
                    <a:pt x="96" y="947"/>
                  </a:lnTo>
                  <a:lnTo>
                    <a:pt x="217" y="839"/>
                  </a:lnTo>
                  <a:lnTo>
                    <a:pt x="351" y="801"/>
                  </a:lnTo>
                  <a:lnTo>
                    <a:pt x="389" y="659"/>
                  </a:lnTo>
                  <a:lnTo>
                    <a:pt x="503" y="543"/>
                  </a:lnTo>
                  <a:lnTo>
                    <a:pt x="656" y="543"/>
                  </a:lnTo>
                  <a:lnTo>
                    <a:pt x="731" y="492"/>
                  </a:lnTo>
                  <a:lnTo>
                    <a:pt x="782" y="364"/>
                  </a:lnTo>
                  <a:lnTo>
                    <a:pt x="898" y="225"/>
                  </a:lnTo>
                  <a:lnTo>
                    <a:pt x="960" y="32"/>
                  </a:lnTo>
                  <a:lnTo>
                    <a:pt x="1075" y="57"/>
                  </a:lnTo>
                  <a:lnTo>
                    <a:pt x="1209" y="0"/>
                  </a:lnTo>
                  <a:lnTo>
                    <a:pt x="1247" y="70"/>
                  </a:lnTo>
                  <a:lnTo>
                    <a:pt x="1320" y="123"/>
                  </a:lnTo>
                  <a:lnTo>
                    <a:pt x="1382" y="264"/>
                  </a:lnTo>
                  <a:lnTo>
                    <a:pt x="1507" y="343"/>
                  </a:lnTo>
                  <a:lnTo>
                    <a:pt x="1570" y="485"/>
                  </a:lnTo>
                  <a:lnTo>
                    <a:pt x="1709" y="562"/>
                  </a:lnTo>
                  <a:lnTo>
                    <a:pt x="1741" y="735"/>
                  </a:lnTo>
                  <a:lnTo>
                    <a:pt x="1997" y="921"/>
                  </a:lnTo>
                  <a:lnTo>
                    <a:pt x="2091" y="1086"/>
                  </a:lnTo>
                  <a:lnTo>
                    <a:pt x="0" y="1086"/>
                  </a:lnTo>
                  <a:close/>
                </a:path>
              </a:pathLst>
            </a:custGeom>
            <a:solidFill>
              <a:srgbClr val="a0a0a0">
                <a:alpha val="50000"/>
              </a:srgbClr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5212440" y="2595600"/>
              <a:ext cx="1049760" cy="1989360"/>
              <a:chOff x="5212440" y="2595600"/>
              <a:chExt cx="1049760" cy="1989360"/>
            </a:xfrm>
          </p:grpSpPr>
          <p:sp>
            <p:nvSpPr>
              <p:cNvPr id="145" name=""/>
              <p:cNvSpPr/>
              <p:nvPr/>
            </p:nvSpPr>
            <p:spPr>
              <a:xfrm>
                <a:off x="5212440" y="2595600"/>
                <a:ext cx="303480" cy="665280"/>
              </a:xfrm>
              <a:custGeom>
                <a:avLst/>
                <a:gdLst/>
                <a:ahLst/>
                <a:rect l="l" t="t" r="r" b="b"/>
                <a:pathLst>
                  <a:path w="140" h="252">
                    <a:moveTo>
                      <a:pt x="63" y="0"/>
                    </a:moveTo>
                    <a:lnTo>
                      <a:pt x="46" y="95"/>
                    </a:lnTo>
                    <a:lnTo>
                      <a:pt x="63" y="142"/>
                    </a:lnTo>
                    <a:lnTo>
                      <a:pt x="16" y="189"/>
                    </a:lnTo>
                    <a:lnTo>
                      <a:pt x="0" y="252"/>
                    </a:lnTo>
                    <a:lnTo>
                      <a:pt x="77" y="235"/>
                    </a:lnTo>
                    <a:lnTo>
                      <a:pt x="77" y="205"/>
                    </a:lnTo>
                    <a:lnTo>
                      <a:pt x="140" y="235"/>
                    </a:lnTo>
                    <a:lnTo>
                      <a:pt x="125" y="142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808080">
                  <a:alpha val="5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416560" y="3171240"/>
                <a:ext cx="474480" cy="752040"/>
              </a:xfrm>
              <a:custGeom>
                <a:avLst/>
                <a:gdLst/>
                <a:ahLst/>
                <a:rect l="l" t="t" r="r" b="b"/>
                <a:pathLst>
                  <a:path w="219" h="285">
                    <a:moveTo>
                      <a:pt x="156" y="0"/>
                    </a:moveTo>
                    <a:lnTo>
                      <a:pt x="219" y="143"/>
                    </a:lnTo>
                    <a:lnTo>
                      <a:pt x="156" y="159"/>
                    </a:lnTo>
                    <a:lnTo>
                      <a:pt x="94" y="237"/>
                    </a:lnTo>
                    <a:lnTo>
                      <a:pt x="46" y="191"/>
                    </a:lnTo>
                    <a:lnTo>
                      <a:pt x="0" y="285"/>
                    </a:lnTo>
                    <a:lnTo>
                      <a:pt x="0" y="143"/>
                    </a:lnTo>
                    <a:lnTo>
                      <a:pt x="94" y="128"/>
                    </a:lnTo>
                    <a:lnTo>
                      <a:pt x="109" y="34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808080">
                  <a:alpha val="5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789520" y="3756960"/>
                <a:ext cx="472680" cy="828000"/>
              </a:xfrm>
              <a:custGeom>
                <a:avLst/>
                <a:gdLst/>
                <a:ahLst/>
                <a:rect l="l" t="t" r="r" b="b"/>
                <a:pathLst>
                  <a:path w="218" h="314">
                    <a:moveTo>
                      <a:pt x="186" y="0"/>
                    </a:moveTo>
                    <a:lnTo>
                      <a:pt x="93" y="31"/>
                    </a:lnTo>
                    <a:lnTo>
                      <a:pt x="93" y="142"/>
                    </a:lnTo>
                    <a:lnTo>
                      <a:pt x="30" y="126"/>
                    </a:lnTo>
                    <a:lnTo>
                      <a:pt x="0" y="219"/>
                    </a:lnTo>
                    <a:lnTo>
                      <a:pt x="78" y="236"/>
                    </a:lnTo>
                    <a:lnTo>
                      <a:pt x="123" y="314"/>
                    </a:lnTo>
                    <a:lnTo>
                      <a:pt x="172" y="219"/>
                    </a:lnTo>
                    <a:lnTo>
                      <a:pt x="218" y="254"/>
                    </a:lnTo>
                    <a:lnTo>
                      <a:pt x="218" y="174"/>
                    </a:lnTo>
                    <a:lnTo>
                      <a:pt x="186" y="0"/>
                    </a:lnTo>
                    <a:close/>
                  </a:path>
                </a:pathLst>
              </a:custGeom>
              <a:solidFill>
                <a:srgbClr val="808080">
                  <a:alpha val="5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8" name=""/>
          <p:cNvGrpSpPr/>
          <p:nvPr/>
        </p:nvGrpSpPr>
        <p:grpSpPr>
          <a:xfrm>
            <a:off x="2340000" y="1484280"/>
            <a:ext cx="4809600" cy="3704400"/>
            <a:chOff x="2340000" y="1484280"/>
            <a:chExt cx="4809600" cy="3704400"/>
          </a:xfrm>
        </p:grpSpPr>
        <p:sp>
          <p:nvSpPr>
            <p:cNvPr id="149" name=""/>
            <p:cNvSpPr/>
            <p:nvPr/>
          </p:nvSpPr>
          <p:spPr>
            <a:xfrm>
              <a:off x="2340000" y="1484280"/>
              <a:ext cx="4809600" cy="3704400"/>
            </a:xfrm>
            <a:custGeom>
              <a:avLst/>
              <a:gdLst/>
              <a:ahLst/>
              <a:rect l="l" t="t" r="r" b="b"/>
              <a:pathLst>
                <a:path w="2091" h="1086">
                  <a:moveTo>
                    <a:pt x="0" y="1086"/>
                  </a:moveTo>
                  <a:lnTo>
                    <a:pt x="96" y="947"/>
                  </a:lnTo>
                  <a:lnTo>
                    <a:pt x="217" y="839"/>
                  </a:lnTo>
                  <a:lnTo>
                    <a:pt x="351" y="801"/>
                  </a:lnTo>
                  <a:lnTo>
                    <a:pt x="389" y="659"/>
                  </a:lnTo>
                  <a:lnTo>
                    <a:pt x="503" y="543"/>
                  </a:lnTo>
                  <a:lnTo>
                    <a:pt x="656" y="543"/>
                  </a:lnTo>
                  <a:lnTo>
                    <a:pt x="731" y="492"/>
                  </a:lnTo>
                  <a:lnTo>
                    <a:pt x="782" y="364"/>
                  </a:lnTo>
                  <a:lnTo>
                    <a:pt x="898" y="225"/>
                  </a:lnTo>
                  <a:lnTo>
                    <a:pt x="960" y="32"/>
                  </a:lnTo>
                  <a:lnTo>
                    <a:pt x="1075" y="57"/>
                  </a:lnTo>
                  <a:lnTo>
                    <a:pt x="1209" y="0"/>
                  </a:lnTo>
                  <a:lnTo>
                    <a:pt x="1247" y="70"/>
                  </a:lnTo>
                  <a:lnTo>
                    <a:pt x="1320" y="123"/>
                  </a:lnTo>
                  <a:lnTo>
                    <a:pt x="1382" y="264"/>
                  </a:lnTo>
                  <a:lnTo>
                    <a:pt x="1507" y="343"/>
                  </a:lnTo>
                  <a:lnTo>
                    <a:pt x="1570" y="485"/>
                  </a:lnTo>
                  <a:lnTo>
                    <a:pt x="1709" y="562"/>
                  </a:lnTo>
                  <a:lnTo>
                    <a:pt x="1741" y="735"/>
                  </a:lnTo>
                  <a:lnTo>
                    <a:pt x="1997" y="921"/>
                  </a:lnTo>
                  <a:lnTo>
                    <a:pt x="2091" y="1086"/>
                  </a:lnTo>
                  <a:lnTo>
                    <a:pt x="0" y="1086"/>
                  </a:lnTo>
                  <a:close/>
                </a:path>
              </a:pathLst>
            </a:custGeom>
            <a:solidFill>
              <a:srgbClr val="a0a0a0">
                <a:alpha val="50000"/>
              </a:srgbClr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5231160" y="1896480"/>
              <a:ext cx="1112760" cy="2571120"/>
              <a:chOff x="5231160" y="1896480"/>
              <a:chExt cx="1112760" cy="2571120"/>
            </a:xfrm>
          </p:grpSpPr>
          <p:sp>
            <p:nvSpPr>
              <p:cNvPr id="151" name=""/>
              <p:cNvSpPr/>
              <p:nvPr/>
            </p:nvSpPr>
            <p:spPr>
              <a:xfrm>
                <a:off x="5231160" y="1896480"/>
                <a:ext cx="321480" cy="859680"/>
              </a:xfrm>
              <a:custGeom>
                <a:avLst/>
                <a:gdLst/>
                <a:ahLst/>
                <a:rect l="l" t="t" r="r" b="b"/>
                <a:pathLst>
                  <a:path w="140" h="252">
                    <a:moveTo>
                      <a:pt x="63" y="0"/>
                    </a:moveTo>
                    <a:lnTo>
                      <a:pt x="46" y="95"/>
                    </a:lnTo>
                    <a:lnTo>
                      <a:pt x="63" y="142"/>
                    </a:lnTo>
                    <a:lnTo>
                      <a:pt x="16" y="189"/>
                    </a:lnTo>
                    <a:lnTo>
                      <a:pt x="0" y="252"/>
                    </a:lnTo>
                    <a:lnTo>
                      <a:pt x="77" y="235"/>
                    </a:lnTo>
                    <a:lnTo>
                      <a:pt x="77" y="205"/>
                    </a:lnTo>
                    <a:lnTo>
                      <a:pt x="140" y="235"/>
                    </a:lnTo>
                    <a:lnTo>
                      <a:pt x="125" y="142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808080">
                  <a:alpha val="5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447520" y="2640240"/>
                <a:ext cx="503280" cy="972000"/>
              </a:xfrm>
              <a:custGeom>
                <a:avLst/>
                <a:gdLst/>
                <a:ahLst/>
                <a:rect l="l" t="t" r="r" b="b"/>
                <a:pathLst>
                  <a:path w="219" h="285">
                    <a:moveTo>
                      <a:pt x="156" y="0"/>
                    </a:moveTo>
                    <a:lnTo>
                      <a:pt x="219" y="143"/>
                    </a:lnTo>
                    <a:lnTo>
                      <a:pt x="156" y="159"/>
                    </a:lnTo>
                    <a:lnTo>
                      <a:pt x="94" y="237"/>
                    </a:lnTo>
                    <a:lnTo>
                      <a:pt x="46" y="191"/>
                    </a:lnTo>
                    <a:lnTo>
                      <a:pt x="0" y="285"/>
                    </a:lnTo>
                    <a:lnTo>
                      <a:pt x="0" y="143"/>
                    </a:lnTo>
                    <a:lnTo>
                      <a:pt x="94" y="128"/>
                    </a:lnTo>
                    <a:lnTo>
                      <a:pt x="109" y="34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808080">
                  <a:alpha val="5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842800" y="3397320"/>
                <a:ext cx="501120" cy="1070280"/>
              </a:xfrm>
              <a:custGeom>
                <a:avLst/>
                <a:gdLst/>
                <a:ahLst/>
                <a:rect l="l" t="t" r="r" b="b"/>
                <a:pathLst>
                  <a:path w="218" h="314">
                    <a:moveTo>
                      <a:pt x="186" y="0"/>
                    </a:moveTo>
                    <a:lnTo>
                      <a:pt x="93" y="31"/>
                    </a:lnTo>
                    <a:lnTo>
                      <a:pt x="93" y="142"/>
                    </a:lnTo>
                    <a:lnTo>
                      <a:pt x="30" y="126"/>
                    </a:lnTo>
                    <a:lnTo>
                      <a:pt x="0" y="219"/>
                    </a:lnTo>
                    <a:lnTo>
                      <a:pt x="78" y="236"/>
                    </a:lnTo>
                    <a:lnTo>
                      <a:pt x="123" y="314"/>
                    </a:lnTo>
                    <a:lnTo>
                      <a:pt x="172" y="219"/>
                    </a:lnTo>
                    <a:lnTo>
                      <a:pt x="218" y="254"/>
                    </a:lnTo>
                    <a:lnTo>
                      <a:pt x="218" y="174"/>
                    </a:lnTo>
                    <a:lnTo>
                      <a:pt x="186" y="0"/>
                    </a:lnTo>
                    <a:close/>
                  </a:path>
                </a:pathLst>
              </a:custGeom>
              <a:solidFill>
                <a:srgbClr val="808080">
                  <a:alpha val="5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4" name=""/>
          <p:cNvGrpSpPr/>
          <p:nvPr/>
        </p:nvGrpSpPr>
        <p:grpSpPr>
          <a:xfrm>
            <a:off x="2124000" y="0"/>
            <a:ext cx="5486400" cy="5229000"/>
            <a:chOff x="2124000" y="0"/>
            <a:chExt cx="5486400" cy="5229000"/>
          </a:xfrm>
        </p:grpSpPr>
        <p:sp>
          <p:nvSpPr>
            <p:cNvPr id="155" name=""/>
            <p:cNvSpPr/>
            <p:nvPr/>
          </p:nvSpPr>
          <p:spPr>
            <a:xfrm>
              <a:off x="2124000" y="0"/>
              <a:ext cx="5486400" cy="5229000"/>
            </a:xfrm>
            <a:custGeom>
              <a:avLst/>
              <a:gdLst/>
              <a:ahLst/>
              <a:rect l="l" t="t" r="r" b="b"/>
              <a:pathLst>
                <a:path w="2091" h="1086">
                  <a:moveTo>
                    <a:pt x="0" y="1086"/>
                  </a:moveTo>
                  <a:lnTo>
                    <a:pt x="96" y="947"/>
                  </a:lnTo>
                  <a:lnTo>
                    <a:pt x="217" y="839"/>
                  </a:lnTo>
                  <a:lnTo>
                    <a:pt x="351" y="801"/>
                  </a:lnTo>
                  <a:lnTo>
                    <a:pt x="389" y="659"/>
                  </a:lnTo>
                  <a:lnTo>
                    <a:pt x="503" y="543"/>
                  </a:lnTo>
                  <a:lnTo>
                    <a:pt x="656" y="543"/>
                  </a:lnTo>
                  <a:lnTo>
                    <a:pt x="731" y="492"/>
                  </a:lnTo>
                  <a:lnTo>
                    <a:pt x="782" y="364"/>
                  </a:lnTo>
                  <a:lnTo>
                    <a:pt x="898" y="225"/>
                  </a:lnTo>
                  <a:lnTo>
                    <a:pt x="960" y="32"/>
                  </a:lnTo>
                  <a:lnTo>
                    <a:pt x="1075" y="57"/>
                  </a:lnTo>
                  <a:lnTo>
                    <a:pt x="1209" y="0"/>
                  </a:lnTo>
                  <a:lnTo>
                    <a:pt x="1247" y="70"/>
                  </a:lnTo>
                  <a:lnTo>
                    <a:pt x="1320" y="123"/>
                  </a:lnTo>
                  <a:lnTo>
                    <a:pt x="1382" y="264"/>
                  </a:lnTo>
                  <a:lnTo>
                    <a:pt x="1507" y="343"/>
                  </a:lnTo>
                  <a:lnTo>
                    <a:pt x="1570" y="485"/>
                  </a:lnTo>
                  <a:lnTo>
                    <a:pt x="1709" y="562"/>
                  </a:lnTo>
                  <a:lnTo>
                    <a:pt x="1741" y="735"/>
                  </a:lnTo>
                  <a:lnTo>
                    <a:pt x="1997" y="921"/>
                  </a:lnTo>
                  <a:lnTo>
                    <a:pt x="2091" y="1086"/>
                  </a:lnTo>
                  <a:lnTo>
                    <a:pt x="0" y="1086"/>
                  </a:lnTo>
                  <a:close/>
                </a:path>
              </a:pathLst>
            </a:custGeom>
            <a:solidFill>
              <a:srgbClr val="a0a0a0">
                <a:alpha val="50000"/>
              </a:srgbClr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5437080" y="783360"/>
              <a:ext cx="1269360" cy="3629520"/>
              <a:chOff x="5437080" y="783360"/>
              <a:chExt cx="1269360" cy="3629520"/>
            </a:xfrm>
          </p:grpSpPr>
          <p:sp>
            <p:nvSpPr>
              <p:cNvPr id="157" name=""/>
              <p:cNvSpPr/>
              <p:nvPr/>
            </p:nvSpPr>
            <p:spPr>
              <a:xfrm>
                <a:off x="5437080" y="783360"/>
                <a:ext cx="366840" cy="1213920"/>
              </a:xfrm>
              <a:custGeom>
                <a:avLst/>
                <a:gdLst/>
                <a:ahLst/>
                <a:rect l="l" t="t" r="r" b="b"/>
                <a:pathLst>
                  <a:path w="140" h="252">
                    <a:moveTo>
                      <a:pt x="63" y="0"/>
                    </a:moveTo>
                    <a:lnTo>
                      <a:pt x="46" y="95"/>
                    </a:lnTo>
                    <a:lnTo>
                      <a:pt x="63" y="142"/>
                    </a:lnTo>
                    <a:lnTo>
                      <a:pt x="16" y="189"/>
                    </a:lnTo>
                    <a:lnTo>
                      <a:pt x="0" y="252"/>
                    </a:lnTo>
                    <a:lnTo>
                      <a:pt x="77" y="235"/>
                    </a:lnTo>
                    <a:lnTo>
                      <a:pt x="77" y="205"/>
                    </a:lnTo>
                    <a:lnTo>
                      <a:pt x="140" y="235"/>
                    </a:lnTo>
                    <a:lnTo>
                      <a:pt x="125" y="142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808080">
                  <a:alpha val="5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683680" y="1833480"/>
                <a:ext cx="574200" cy="1371960"/>
              </a:xfrm>
              <a:custGeom>
                <a:avLst/>
                <a:gdLst/>
                <a:ahLst/>
                <a:rect l="l" t="t" r="r" b="b"/>
                <a:pathLst>
                  <a:path w="219" h="285">
                    <a:moveTo>
                      <a:pt x="156" y="0"/>
                    </a:moveTo>
                    <a:lnTo>
                      <a:pt x="219" y="143"/>
                    </a:lnTo>
                    <a:lnTo>
                      <a:pt x="156" y="159"/>
                    </a:lnTo>
                    <a:lnTo>
                      <a:pt x="94" y="237"/>
                    </a:lnTo>
                    <a:lnTo>
                      <a:pt x="46" y="191"/>
                    </a:lnTo>
                    <a:lnTo>
                      <a:pt x="0" y="285"/>
                    </a:lnTo>
                    <a:lnTo>
                      <a:pt x="0" y="143"/>
                    </a:lnTo>
                    <a:lnTo>
                      <a:pt x="94" y="128"/>
                    </a:lnTo>
                    <a:lnTo>
                      <a:pt x="109" y="34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808080">
                  <a:alpha val="5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134760" y="2902320"/>
                <a:ext cx="571680" cy="1510560"/>
              </a:xfrm>
              <a:custGeom>
                <a:avLst/>
                <a:gdLst/>
                <a:ahLst/>
                <a:rect l="l" t="t" r="r" b="b"/>
                <a:pathLst>
                  <a:path w="218" h="314">
                    <a:moveTo>
                      <a:pt x="186" y="0"/>
                    </a:moveTo>
                    <a:lnTo>
                      <a:pt x="93" y="31"/>
                    </a:lnTo>
                    <a:lnTo>
                      <a:pt x="93" y="142"/>
                    </a:lnTo>
                    <a:lnTo>
                      <a:pt x="30" y="126"/>
                    </a:lnTo>
                    <a:lnTo>
                      <a:pt x="0" y="219"/>
                    </a:lnTo>
                    <a:lnTo>
                      <a:pt x="78" y="236"/>
                    </a:lnTo>
                    <a:lnTo>
                      <a:pt x="123" y="314"/>
                    </a:lnTo>
                    <a:lnTo>
                      <a:pt x="172" y="219"/>
                    </a:lnTo>
                    <a:lnTo>
                      <a:pt x="218" y="254"/>
                    </a:lnTo>
                    <a:lnTo>
                      <a:pt x="218" y="174"/>
                    </a:lnTo>
                    <a:lnTo>
                      <a:pt x="186" y="0"/>
                    </a:lnTo>
                    <a:close/>
                  </a:path>
                </a:pathLst>
              </a:custGeom>
              <a:solidFill>
                <a:srgbClr val="808080">
                  <a:alpha val="5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0" name=""/>
          <p:cNvSpPr/>
          <p:nvPr/>
        </p:nvSpPr>
        <p:spPr>
          <a:xfrm>
            <a:off x="900000" y="5229360"/>
            <a:ext cx="746784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能移就多移，不能就少移，力争一定要移。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24000" y="3068640"/>
            <a:ext cx="1903680" cy="2036520"/>
            <a:chOff x="324000" y="3068640"/>
            <a:chExt cx="1903680" cy="2036520"/>
          </a:xfrm>
        </p:grpSpPr>
        <p:grpSp>
          <p:nvGrpSpPr>
            <p:cNvPr id="162" name=""/>
            <p:cNvGrpSpPr/>
            <p:nvPr/>
          </p:nvGrpSpPr>
          <p:grpSpPr>
            <a:xfrm>
              <a:off x="324000" y="3158280"/>
              <a:ext cx="1202760" cy="1924920"/>
              <a:chOff x="324000" y="3158280"/>
              <a:chExt cx="1202760" cy="1924920"/>
            </a:xfrm>
          </p:grpSpPr>
          <p:sp>
            <p:nvSpPr>
              <p:cNvPr id="163" name=""/>
              <p:cNvSpPr/>
              <p:nvPr/>
            </p:nvSpPr>
            <p:spPr>
              <a:xfrm>
                <a:off x="888840" y="4957200"/>
                <a:ext cx="637920" cy="126000"/>
              </a:xfrm>
              <a:custGeom>
                <a:avLst/>
                <a:gdLst/>
                <a:ahLst/>
                <a:rect l="l" t="t" r="r" b="b"/>
                <a:pathLst>
                  <a:path w="454" h="121">
                    <a:moveTo>
                      <a:pt x="271" y="0"/>
                    </a:moveTo>
                    <a:lnTo>
                      <a:pt x="230" y="4"/>
                    </a:lnTo>
                    <a:lnTo>
                      <a:pt x="186" y="9"/>
                    </a:lnTo>
                    <a:lnTo>
                      <a:pt x="156" y="15"/>
                    </a:lnTo>
                    <a:lnTo>
                      <a:pt x="135" y="12"/>
                    </a:lnTo>
                    <a:lnTo>
                      <a:pt x="102" y="13"/>
                    </a:lnTo>
                    <a:lnTo>
                      <a:pt x="57" y="18"/>
                    </a:lnTo>
                    <a:lnTo>
                      <a:pt x="29" y="25"/>
                    </a:lnTo>
                    <a:lnTo>
                      <a:pt x="11" y="34"/>
                    </a:lnTo>
                    <a:lnTo>
                      <a:pt x="3" y="42"/>
                    </a:lnTo>
                    <a:lnTo>
                      <a:pt x="0" y="55"/>
                    </a:lnTo>
                    <a:lnTo>
                      <a:pt x="6" y="64"/>
                    </a:lnTo>
                    <a:lnTo>
                      <a:pt x="17" y="72"/>
                    </a:lnTo>
                    <a:lnTo>
                      <a:pt x="32" y="79"/>
                    </a:lnTo>
                    <a:lnTo>
                      <a:pt x="53" y="86"/>
                    </a:lnTo>
                    <a:lnTo>
                      <a:pt x="77" y="91"/>
                    </a:lnTo>
                    <a:lnTo>
                      <a:pt x="141" y="97"/>
                    </a:lnTo>
                    <a:lnTo>
                      <a:pt x="311" y="111"/>
                    </a:lnTo>
                    <a:lnTo>
                      <a:pt x="454" y="121"/>
                    </a:lnTo>
                    <a:lnTo>
                      <a:pt x="271" y="0"/>
                    </a:lnTo>
                    <a:close/>
                  </a:path>
                </a:pathLst>
              </a:custGeom>
              <a:solidFill>
                <a:srgbClr val="3f3f3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grpSp>
            <p:nvGrpSpPr>
              <p:cNvPr id="164" name=""/>
              <p:cNvGrpSpPr/>
              <p:nvPr/>
            </p:nvGrpSpPr>
            <p:grpSpPr>
              <a:xfrm>
                <a:off x="324000" y="3158280"/>
                <a:ext cx="981720" cy="778680"/>
                <a:chOff x="324000" y="3158280"/>
                <a:chExt cx="981720" cy="778680"/>
              </a:xfrm>
            </p:grpSpPr>
            <p:grpSp>
              <p:nvGrpSpPr>
                <p:cNvPr id="165" name=""/>
                <p:cNvGrpSpPr/>
                <p:nvPr/>
              </p:nvGrpSpPr>
              <p:grpSpPr>
                <a:xfrm>
                  <a:off x="324000" y="3158280"/>
                  <a:ext cx="981720" cy="778680"/>
                  <a:chOff x="324000" y="3158280"/>
                  <a:chExt cx="981720" cy="778680"/>
                </a:xfrm>
              </p:grpSpPr>
              <p:grpSp>
                <p:nvGrpSpPr>
                  <p:cNvPr id="166" name=""/>
                  <p:cNvGrpSpPr/>
                  <p:nvPr/>
                </p:nvGrpSpPr>
                <p:grpSpPr>
                  <a:xfrm>
                    <a:off x="437760" y="3158280"/>
                    <a:ext cx="867960" cy="724680"/>
                    <a:chOff x="437760" y="3158280"/>
                    <a:chExt cx="867960" cy="724680"/>
                  </a:xfrm>
                </p:grpSpPr>
                <p:grpSp>
                  <p:nvGrpSpPr>
                    <p:cNvPr id="167" name=""/>
                    <p:cNvGrpSpPr/>
                    <p:nvPr/>
                  </p:nvGrpSpPr>
                  <p:grpSpPr>
                    <a:xfrm>
                      <a:off x="437760" y="3158280"/>
                      <a:ext cx="867960" cy="724680"/>
                      <a:chOff x="437760" y="3158280"/>
                      <a:chExt cx="867960" cy="724680"/>
                    </a:xfrm>
                  </p:grpSpPr>
                  <p:sp>
                    <p:nvSpPr>
                      <p:cNvPr id="168" name=""/>
                      <p:cNvSpPr/>
                      <p:nvPr/>
                    </p:nvSpPr>
                    <p:spPr>
                      <a:xfrm>
                        <a:off x="443160" y="3158280"/>
                        <a:ext cx="862560" cy="721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4" h="693">
                            <a:moveTo>
                              <a:pt x="490" y="60"/>
                            </a:moveTo>
                            <a:lnTo>
                              <a:pt x="544" y="0"/>
                            </a:lnTo>
                            <a:lnTo>
                              <a:pt x="560" y="1"/>
                            </a:lnTo>
                            <a:lnTo>
                              <a:pt x="574" y="4"/>
                            </a:lnTo>
                            <a:lnTo>
                              <a:pt x="587" y="10"/>
                            </a:lnTo>
                            <a:lnTo>
                              <a:pt x="597" y="17"/>
                            </a:lnTo>
                            <a:lnTo>
                              <a:pt x="605" y="25"/>
                            </a:lnTo>
                            <a:lnTo>
                              <a:pt x="611" y="37"/>
                            </a:lnTo>
                            <a:lnTo>
                              <a:pt x="614" y="53"/>
                            </a:lnTo>
                            <a:lnTo>
                              <a:pt x="613" y="68"/>
                            </a:lnTo>
                            <a:lnTo>
                              <a:pt x="44" y="693"/>
                            </a:lnTo>
                            <a:lnTo>
                              <a:pt x="0" y="645"/>
                            </a:lnTo>
                            <a:lnTo>
                              <a:pt x="490" y="60"/>
                            </a:lnTo>
                            <a:close/>
                          </a:path>
                        </a:pathLst>
                      </a:custGeom>
                      <a:solidFill>
                        <a:srgbClr val="7f3f0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9" name=""/>
                      <p:cNvSpPr/>
                      <p:nvPr/>
                    </p:nvSpPr>
                    <p:spPr>
                      <a:xfrm>
                        <a:off x="437760" y="3830040"/>
                        <a:ext cx="70200" cy="52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0" h="51">
                            <a:moveTo>
                              <a:pt x="2" y="2"/>
                            </a:moveTo>
                            <a:lnTo>
                              <a:pt x="15" y="0"/>
                            </a:lnTo>
                            <a:lnTo>
                              <a:pt x="27" y="5"/>
                            </a:lnTo>
                            <a:lnTo>
                              <a:pt x="37" y="11"/>
                            </a:lnTo>
                            <a:lnTo>
                              <a:pt x="44" y="18"/>
                            </a:lnTo>
                            <a:lnTo>
                              <a:pt x="49" y="30"/>
                            </a:lnTo>
                            <a:lnTo>
                              <a:pt x="50" y="42"/>
                            </a:lnTo>
                            <a:lnTo>
                              <a:pt x="48" y="49"/>
                            </a:lnTo>
                            <a:lnTo>
                              <a:pt x="39" y="51"/>
                            </a:lnTo>
                            <a:lnTo>
                              <a:pt x="26" y="50"/>
                            </a:lnTo>
                            <a:lnTo>
                              <a:pt x="18" y="46"/>
                            </a:lnTo>
                            <a:lnTo>
                              <a:pt x="10" y="40"/>
                            </a:lnTo>
                            <a:lnTo>
                              <a:pt x="5" y="34"/>
                            </a:lnTo>
                            <a:lnTo>
                              <a:pt x="1" y="22"/>
                            </a:lnTo>
                            <a:lnTo>
                              <a:pt x="0" y="11"/>
                            </a:lnTo>
                            <a:lnTo>
                              <a:pt x="2" y="2"/>
                            </a:lnTo>
                            <a:close/>
                          </a:path>
                        </a:pathLst>
                      </a:custGeom>
                      <a:solidFill>
                        <a:srgbClr val="5f3f1f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6120" bIns="6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33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0" name=""/>
                    <p:cNvGrpSpPr/>
                    <p:nvPr/>
                  </p:nvGrpSpPr>
                  <p:grpSpPr>
                    <a:xfrm>
                      <a:off x="627480" y="3161880"/>
                      <a:ext cx="676800" cy="538560"/>
                      <a:chOff x="627480" y="3161880"/>
                      <a:chExt cx="676800" cy="538560"/>
                    </a:xfrm>
                  </p:grpSpPr>
                  <p:grpSp>
                    <p:nvGrpSpPr>
                      <p:cNvPr id="171" name=""/>
                      <p:cNvGrpSpPr/>
                      <p:nvPr/>
                    </p:nvGrpSpPr>
                    <p:grpSpPr>
                      <a:xfrm>
                        <a:off x="1130040" y="3161880"/>
                        <a:ext cx="174240" cy="98280"/>
                        <a:chOff x="1130040" y="3161880"/>
                        <a:chExt cx="174240" cy="98280"/>
                      </a:xfrm>
                    </p:grpSpPr>
                    <p:sp>
                      <p:nvSpPr>
                        <p:cNvPr id="172" name=""/>
                        <p:cNvSpPr/>
                        <p:nvPr/>
                      </p:nvSpPr>
                      <p:spPr>
                        <a:xfrm flipV="1">
                          <a:off x="1130040" y="3161880"/>
                          <a:ext cx="106560" cy="83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6360" bIns="36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33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3" name=""/>
                        <p:cNvSpPr/>
                        <p:nvPr/>
                      </p:nvSpPr>
                      <p:spPr>
                        <a:xfrm flipV="1">
                          <a:off x="1191600" y="3171960"/>
                          <a:ext cx="80280" cy="529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6120" bIns="6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33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4" name=""/>
                        <p:cNvSpPr/>
                        <p:nvPr/>
                      </p:nvSpPr>
                      <p:spPr>
                        <a:xfrm flipV="1">
                          <a:off x="1180440" y="3185640"/>
                          <a:ext cx="113400" cy="74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7720" bIns="27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33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5" name=""/>
                        <p:cNvSpPr/>
                        <p:nvPr/>
                      </p:nvSpPr>
                      <p:spPr>
                        <a:xfrm flipV="1">
                          <a:off x="1226880" y="3211920"/>
                          <a:ext cx="77400" cy="42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20" bIns="-43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33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76" name=""/>
                      <p:cNvGrpSpPr/>
                      <p:nvPr/>
                    </p:nvGrpSpPr>
                    <p:grpSpPr>
                      <a:xfrm>
                        <a:off x="627480" y="3507120"/>
                        <a:ext cx="230040" cy="193320"/>
                        <a:chOff x="627480" y="3507120"/>
                        <a:chExt cx="230040" cy="193320"/>
                      </a:xfrm>
                    </p:grpSpPr>
                    <p:sp>
                      <p:nvSpPr>
                        <p:cNvPr id="177" name=""/>
                        <p:cNvSpPr/>
                        <p:nvPr/>
                      </p:nvSpPr>
                      <p:spPr>
                        <a:xfrm flipV="1">
                          <a:off x="627480" y="3611160"/>
                          <a:ext cx="79920" cy="676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0880" bIns="20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33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V="1">
                          <a:off x="669240" y="3654360"/>
                          <a:ext cx="46080" cy="363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0440" bIns="-10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33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V="1">
                          <a:off x="687600" y="3562200"/>
                          <a:ext cx="169920" cy="1382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33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V="1">
                          <a:off x="770400" y="3507120"/>
                          <a:ext cx="85680" cy="633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6560" bIns="16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33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sp>
                <p:nvSpPr>
                  <p:cNvPr id="181" name=""/>
                  <p:cNvSpPr/>
                  <p:nvPr/>
                </p:nvSpPr>
                <p:spPr>
                  <a:xfrm>
                    <a:off x="324000" y="3589200"/>
                    <a:ext cx="525240" cy="347760"/>
                  </a:xfrm>
                  <a:custGeom>
                    <a:avLst/>
                    <a:gdLst/>
                    <a:ahLst/>
                    <a:rect l="l" t="t" r="r" b="b"/>
                    <a:pathLst>
                      <a:path w="374" h="334">
                        <a:moveTo>
                          <a:pt x="0" y="157"/>
                        </a:moveTo>
                        <a:lnTo>
                          <a:pt x="8" y="133"/>
                        </a:lnTo>
                        <a:lnTo>
                          <a:pt x="20" y="107"/>
                        </a:lnTo>
                        <a:lnTo>
                          <a:pt x="33" y="86"/>
                        </a:lnTo>
                        <a:lnTo>
                          <a:pt x="49" y="64"/>
                        </a:lnTo>
                        <a:lnTo>
                          <a:pt x="64" y="47"/>
                        </a:lnTo>
                        <a:lnTo>
                          <a:pt x="83" y="30"/>
                        </a:lnTo>
                        <a:lnTo>
                          <a:pt x="103" y="15"/>
                        </a:lnTo>
                        <a:lnTo>
                          <a:pt x="125" y="0"/>
                        </a:lnTo>
                        <a:lnTo>
                          <a:pt x="137" y="13"/>
                        </a:lnTo>
                        <a:lnTo>
                          <a:pt x="152" y="27"/>
                        </a:lnTo>
                        <a:lnTo>
                          <a:pt x="170" y="42"/>
                        </a:lnTo>
                        <a:lnTo>
                          <a:pt x="194" y="62"/>
                        </a:lnTo>
                        <a:lnTo>
                          <a:pt x="217" y="80"/>
                        </a:lnTo>
                        <a:lnTo>
                          <a:pt x="241" y="96"/>
                        </a:lnTo>
                        <a:lnTo>
                          <a:pt x="268" y="115"/>
                        </a:lnTo>
                        <a:lnTo>
                          <a:pt x="297" y="132"/>
                        </a:lnTo>
                        <a:lnTo>
                          <a:pt x="322" y="145"/>
                        </a:lnTo>
                        <a:lnTo>
                          <a:pt x="345" y="158"/>
                        </a:lnTo>
                        <a:lnTo>
                          <a:pt x="374" y="173"/>
                        </a:lnTo>
                        <a:lnTo>
                          <a:pt x="255" y="334"/>
                        </a:lnTo>
                        <a:lnTo>
                          <a:pt x="233" y="312"/>
                        </a:lnTo>
                        <a:lnTo>
                          <a:pt x="208" y="288"/>
                        </a:lnTo>
                        <a:lnTo>
                          <a:pt x="192" y="270"/>
                        </a:lnTo>
                        <a:lnTo>
                          <a:pt x="173" y="253"/>
                        </a:lnTo>
                        <a:lnTo>
                          <a:pt x="151" y="238"/>
                        </a:lnTo>
                        <a:lnTo>
                          <a:pt x="121" y="218"/>
                        </a:lnTo>
                        <a:lnTo>
                          <a:pt x="95" y="203"/>
                        </a:lnTo>
                        <a:lnTo>
                          <a:pt x="68" y="188"/>
                        </a:lnTo>
                        <a:lnTo>
                          <a:pt x="45" y="175"/>
                        </a:lnTo>
                        <a:lnTo>
                          <a:pt x="20" y="164"/>
                        </a:lnTo>
                        <a:lnTo>
                          <a:pt x="0" y="157"/>
                        </a:lnTo>
                        <a:close/>
                      </a:path>
                    </a:pathLst>
                  </a:custGeom>
                  <a:solidFill>
                    <a:srgbClr val="7f3f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2" name=""/>
                <p:cNvSpPr/>
                <p:nvPr/>
              </p:nvSpPr>
              <p:spPr>
                <a:xfrm>
                  <a:off x="680760" y="3770640"/>
                  <a:ext cx="167040" cy="166320"/>
                </a:xfrm>
                <a:custGeom>
                  <a:avLst/>
                  <a:gdLst/>
                  <a:ahLst/>
                  <a:rect l="l" t="t" r="r" b="b"/>
                  <a:pathLst>
                    <a:path w="119" h="160">
                      <a:moveTo>
                        <a:pt x="119" y="0"/>
                      </a:moveTo>
                      <a:lnTo>
                        <a:pt x="102" y="7"/>
                      </a:lnTo>
                      <a:lnTo>
                        <a:pt x="87" y="17"/>
                      </a:lnTo>
                      <a:lnTo>
                        <a:pt x="73" y="29"/>
                      </a:lnTo>
                      <a:lnTo>
                        <a:pt x="59" y="43"/>
                      </a:lnTo>
                      <a:lnTo>
                        <a:pt x="44" y="61"/>
                      </a:lnTo>
                      <a:lnTo>
                        <a:pt x="35" y="75"/>
                      </a:lnTo>
                      <a:lnTo>
                        <a:pt x="23" y="94"/>
                      </a:lnTo>
                      <a:lnTo>
                        <a:pt x="13" y="114"/>
                      </a:lnTo>
                      <a:lnTo>
                        <a:pt x="4" y="135"/>
                      </a:lnTo>
                      <a:lnTo>
                        <a:pt x="0" y="160"/>
                      </a:lnTo>
                      <a:lnTo>
                        <a:pt x="18" y="155"/>
                      </a:lnTo>
                      <a:lnTo>
                        <a:pt x="32" y="148"/>
                      </a:lnTo>
                      <a:lnTo>
                        <a:pt x="50" y="138"/>
                      </a:lnTo>
                      <a:lnTo>
                        <a:pt x="66" y="124"/>
                      </a:lnTo>
                      <a:lnTo>
                        <a:pt x="81" y="108"/>
                      </a:lnTo>
                      <a:lnTo>
                        <a:pt x="93" y="91"/>
                      </a:lnTo>
                      <a:lnTo>
                        <a:pt x="102" y="74"/>
                      </a:lnTo>
                      <a:lnTo>
                        <a:pt x="111" y="53"/>
                      </a:lnTo>
                      <a:lnTo>
                        <a:pt x="116" y="36"/>
                      </a:lnTo>
                      <a:lnTo>
                        <a:pt x="118" y="17"/>
                      </a:lnTo>
                      <a:lnTo>
                        <a:pt x="119" y="0"/>
                      </a:lnTo>
                      <a:close/>
                    </a:path>
                  </a:pathLst>
                </a:custGeom>
                <a:solidFill>
                  <a:srgbClr val="5f3f1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3" name=""/>
            <p:cNvGrpSpPr/>
            <p:nvPr/>
          </p:nvGrpSpPr>
          <p:grpSpPr>
            <a:xfrm>
              <a:off x="732960" y="3068640"/>
              <a:ext cx="1494720" cy="2036520"/>
              <a:chOff x="732960" y="3068640"/>
              <a:chExt cx="1494720" cy="2036520"/>
            </a:xfrm>
          </p:grpSpPr>
          <p:grpSp>
            <p:nvGrpSpPr>
              <p:cNvPr id="184" name=""/>
              <p:cNvGrpSpPr/>
              <p:nvPr/>
            </p:nvGrpSpPr>
            <p:grpSpPr>
              <a:xfrm>
                <a:off x="732960" y="3068640"/>
                <a:ext cx="1494720" cy="2036520"/>
                <a:chOff x="732960" y="3068640"/>
                <a:chExt cx="1494720" cy="2036520"/>
              </a:xfrm>
            </p:grpSpPr>
            <p:grpSp>
              <p:nvGrpSpPr>
                <p:cNvPr id="185" name=""/>
                <p:cNvGrpSpPr/>
                <p:nvPr/>
              </p:nvGrpSpPr>
              <p:grpSpPr>
                <a:xfrm>
                  <a:off x="1046520" y="4470120"/>
                  <a:ext cx="876240" cy="635040"/>
                  <a:chOff x="1046520" y="4470120"/>
                  <a:chExt cx="876240" cy="63504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1202040" y="4483440"/>
                    <a:ext cx="720720" cy="423720"/>
                    <a:chOff x="1202040" y="4483440"/>
                    <a:chExt cx="720720" cy="42372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1202040" y="4483440"/>
                      <a:ext cx="72072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3" h="407">
                          <a:moveTo>
                            <a:pt x="136" y="0"/>
                          </a:moveTo>
                          <a:lnTo>
                            <a:pt x="180" y="10"/>
                          </a:lnTo>
                          <a:lnTo>
                            <a:pt x="144" y="91"/>
                          </a:lnTo>
                          <a:lnTo>
                            <a:pt x="111" y="158"/>
                          </a:lnTo>
                          <a:lnTo>
                            <a:pt x="90" y="207"/>
                          </a:lnTo>
                          <a:lnTo>
                            <a:pt x="84" y="228"/>
                          </a:lnTo>
                          <a:lnTo>
                            <a:pt x="85" y="245"/>
                          </a:lnTo>
                          <a:lnTo>
                            <a:pt x="93" y="257"/>
                          </a:lnTo>
                          <a:lnTo>
                            <a:pt x="109" y="269"/>
                          </a:lnTo>
                          <a:lnTo>
                            <a:pt x="131" y="282"/>
                          </a:lnTo>
                          <a:lnTo>
                            <a:pt x="154" y="290"/>
                          </a:lnTo>
                          <a:lnTo>
                            <a:pt x="186" y="300"/>
                          </a:lnTo>
                          <a:lnTo>
                            <a:pt x="216" y="305"/>
                          </a:lnTo>
                          <a:lnTo>
                            <a:pt x="253" y="308"/>
                          </a:lnTo>
                          <a:lnTo>
                            <a:pt x="287" y="305"/>
                          </a:lnTo>
                          <a:lnTo>
                            <a:pt x="321" y="300"/>
                          </a:lnTo>
                          <a:lnTo>
                            <a:pt x="358" y="292"/>
                          </a:lnTo>
                          <a:lnTo>
                            <a:pt x="371" y="295"/>
                          </a:lnTo>
                          <a:lnTo>
                            <a:pt x="376" y="298"/>
                          </a:lnTo>
                          <a:lnTo>
                            <a:pt x="378" y="305"/>
                          </a:lnTo>
                          <a:lnTo>
                            <a:pt x="373" y="319"/>
                          </a:lnTo>
                          <a:lnTo>
                            <a:pt x="368" y="327"/>
                          </a:lnTo>
                          <a:lnTo>
                            <a:pt x="375" y="330"/>
                          </a:lnTo>
                          <a:lnTo>
                            <a:pt x="426" y="321"/>
                          </a:lnTo>
                          <a:lnTo>
                            <a:pt x="438" y="324"/>
                          </a:lnTo>
                          <a:lnTo>
                            <a:pt x="445" y="329"/>
                          </a:lnTo>
                          <a:lnTo>
                            <a:pt x="448" y="337"/>
                          </a:lnTo>
                          <a:lnTo>
                            <a:pt x="443" y="344"/>
                          </a:lnTo>
                          <a:lnTo>
                            <a:pt x="434" y="350"/>
                          </a:lnTo>
                          <a:lnTo>
                            <a:pt x="423" y="357"/>
                          </a:lnTo>
                          <a:lnTo>
                            <a:pt x="431" y="362"/>
                          </a:lnTo>
                          <a:lnTo>
                            <a:pt x="453" y="360"/>
                          </a:lnTo>
                          <a:lnTo>
                            <a:pt x="471" y="362"/>
                          </a:lnTo>
                          <a:lnTo>
                            <a:pt x="489" y="368"/>
                          </a:lnTo>
                          <a:lnTo>
                            <a:pt x="509" y="377"/>
                          </a:lnTo>
                          <a:lnTo>
                            <a:pt x="513" y="384"/>
                          </a:lnTo>
                          <a:lnTo>
                            <a:pt x="512" y="393"/>
                          </a:lnTo>
                          <a:lnTo>
                            <a:pt x="503" y="399"/>
                          </a:lnTo>
                          <a:lnTo>
                            <a:pt x="485" y="402"/>
                          </a:lnTo>
                          <a:lnTo>
                            <a:pt x="455" y="404"/>
                          </a:lnTo>
                          <a:lnTo>
                            <a:pt x="422" y="402"/>
                          </a:lnTo>
                          <a:lnTo>
                            <a:pt x="385" y="405"/>
                          </a:lnTo>
                          <a:lnTo>
                            <a:pt x="360" y="407"/>
                          </a:lnTo>
                          <a:lnTo>
                            <a:pt x="313" y="404"/>
                          </a:lnTo>
                          <a:lnTo>
                            <a:pt x="289" y="399"/>
                          </a:lnTo>
                          <a:lnTo>
                            <a:pt x="254" y="393"/>
                          </a:lnTo>
                          <a:lnTo>
                            <a:pt x="196" y="391"/>
                          </a:lnTo>
                          <a:lnTo>
                            <a:pt x="0" y="333"/>
                          </a:lnTo>
                          <a:lnTo>
                            <a:pt x="24" y="194"/>
                          </a:lnTo>
                          <a:lnTo>
                            <a:pt x="136" y="0"/>
                          </a:lnTo>
                          <a:close/>
                        </a:path>
                      </a:pathLst>
                    </a:custGeom>
                    <a:solidFill>
                      <a:srgbClr val="ff9f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1499760" y="4800960"/>
                      <a:ext cx="115200" cy="2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2" h="22">
                          <a:moveTo>
                            <a:pt x="0" y="0"/>
                          </a:moveTo>
                          <a:lnTo>
                            <a:pt x="42" y="20"/>
                          </a:lnTo>
                          <a:lnTo>
                            <a:pt x="60" y="20"/>
                          </a:lnTo>
                          <a:lnTo>
                            <a:pt x="82" y="22"/>
                          </a:lnTo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1046520" y="4470120"/>
                    <a:ext cx="724680" cy="635040"/>
                    <a:chOff x="1046520" y="4470120"/>
                    <a:chExt cx="724680" cy="63504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1046520" y="4470120"/>
                      <a:ext cx="724680" cy="63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6" h="610">
                          <a:moveTo>
                            <a:pt x="186" y="0"/>
                          </a:moveTo>
                          <a:lnTo>
                            <a:pt x="269" y="16"/>
                          </a:lnTo>
                          <a:lnTo>
                            <a:pt x="265" y="35"/>
                          </a:lnTo>
                          <a:lnTo>
                            <a:pt x="256" y="57"/>
                          </a:lnTo>
                          <a:lnTo>
                            <a:pt x="247" y="76"/>
                          </a:lnTo>
                          <a:lnTo>
                            <a:pt x="234" y="98"/>
                          </a:lnTo>
                          <a:lnTo>
                            <a:pt x="220" y="118"/>
                          </a:lnTo>
                          <a:lnTo>
                            <a:pt x="206" y="136"/>
                          </a:lnTo>
                          <a:lnTo>
                            <a:pt x="197" y="161"/>
                          </a:lnTo>
                          <a:lnTo>
                            <a:pt x="181" y="196"/>
                          </a:lnTo>
                          <a:lnTo>
                            <a:pt x="165" y="228"/>
                          </a:lnTo>
                          <a:lnTo>
                            <a:pt x="159" y="239"/>
                          </a:lnTo>
                          <a:lnTo>
                            <a:pt x="155" y="252"/>
                          </a:lnTo>
                          <a:lnTo>
                            <a:pt x="152" y="268"/>
                          </a:lnTo>
                          <a:lnTo>
                            <a:pt x="149" y="286"/>
                          </a:lnTo>
                          <a:lnTo>
                            <a:pt x="146" y="304"/>
                          </a:lnTo>
                          <a:lnTo>
                            <a:pt x="147" y="320"/>
                          </a:lnTo>
                          <a:lnTo>
                            <a:pt x="152" y="333"/>
                          </a:lnTo>
                          <a:lnTo>
                            <a:pt x="162" y="344"/>
                          </a:lnTo>
                          <a:lnTo>
                            <a:pt x="184" y="349"/>
                          </a:lnTo>
                          <a:lnTo>
                            <a:pt x="206" y="357"/>
                          </a:lnTo>
                          <a:lnTo>
                            <a:pt x="229" y="366"/>
                          </a:lnTo>
                          <a:lnTo>
                            <a:pt x="256" y="377"/>
                          </a:lnTo>
                          <a:lnTo>
                            <a:pt x="272" y="379"/>
                          </a:lnTo>
                          <a:lnTo>
                            <a:pt x="289" y="383"/>
                          </a:lnTo>
                          <a:lnTo>
                            <a:pt x="305" y="389"/>
                          </a:lnTo>
                          <a:lnTo>
                            <a:pt x="321" y="396"/>
                          </a:lnTo>
                          <a:lnTo>
                            <a:pt x="334" y="405"/>
                          </a:lnTo>
                          <a:lnTo>
                            <a:pt x="347" y="416"/>
                          </a:lnTo>
                          <a:lnTo>
                            <a:pt x="356" y="413"/>
                          </a:lnTo>
                          <a:lnTo>
                            <a:pt x="367" y="412"/>
                          </a:lnTo>
                          <a:lnTo>
                            <a:pt x="374" y="415"/>
                          </a:lnTo>
                          <a:lnTo>
                            <a:pt x="378" y="419"/>
                          </a:lnTo>
                          <a:lnTo>
                            <a:pt x="384" y="428"/>
                          </a:lnTo>
                          <a:lnTo>
                            <a:pt x="404" y="429"/>
                          </a:lnTo>
                          <a:lnTo>
                            <a:pt x="432" y="432"/>
                          </a:lnTo>
                          <a:lnTo>
                            <a:pt x="463" y="436"/>
                          </a:lnTo>
                          <a:lnTo>
                            <a:pt x="490" y="438"/>
                          </a:lnTo>
                          <a:lnTo>
                            <a:pt x="507" y="441"/>
                          </a:lnTo>
                          <a:lnTo>
                            <a:pt x="514" y="445"/>
                          </a:lnTo>
                          <a:lnTo>
                            <a:pt x="516" y="451"/>
                          </a:lnTo>
                          <a:lnTo>
                            <a:pt x="514" y="456"/>
                          </a:lnTo>
                          <a:lnTo>
                            <a:pt x="505" y="462"/>
                          </a:lnTo>
                          <a:lnTo>
                            <a:pt x="490" y="468"/>
                          </a:lnTo>
                          <a:lnTo>
                            <a:pt x="470" y="475"/>
                          </a:lnTo>
                          <a:lnTo>
                            <a:pt x="452" y="478"/>
                          </a:lnTo>
                          <a:lnTo>
                            <a:pt x="435" y="479"/>
                          </a:lnTo>
                          <a:lnTo>
                            <a:pt x="421" y="480"/>
                          </a:lnTo>
                          <a:lnTo>
                            <a:pt x="443" y="492"/>
                          </a:lnTo>
                          <a:lnTo>
                            <a:pt x="459" y="501"/>
                          </a:lnTo>
                          <a:lnTo>
                            <a:pt x="470" y="509"/>
                          </a:lnTo>
                          <a:lnTo>
                            <a:pt x="476" y="518"/>
                          </a:lnTo>
                          <a:lnTo>
                            <a:pt x="475" y="528"/>
                          </a:lnTo>
                          <a:lnTo>
                            <a:pt x="470" y="533"/>
                          </a:lnTo>
                          <a:lnTo>
                            <a:pt x="462" y="536"/>
                          </a:lnTo>
                          <a:lnTo>
                            <a:pt x="448" y="537"/>
                          </a:lnTo>
                          <a:lnTo>
                            <a:pt x="429" y="535"/>
                          </a:lnTo>
                          <a:lnTo>
                            <a:pt x="410" y="532"/>
                          </a:lnTo>
                          <a:lnTo>
                            <a:pt x="400" y="531"/>
                          </a:lnTo>
                          <a:lnTo>
                            <a:pt x="393" y="533"/>
                          </a:lnTo>
                          <a:lnTo>
                            <a:pt x="389" y="538"/>
                          </a:lnTo>
                          <a:lnTo>
                            <a:pt x="391" y="544"/>
                          </a:lnTo>
                          <a:lnTo>
                            <a:pt x="397" y="550"/>
                          </a:lnTo>
                          <a:lnTo>
                            <a:pt x="405" y="559"/>
                          </a:lnTo>
                          <a:lnTo>
                            <a:pt x="421" y="576"/>
                          </a:lnTo>
                          <a:lnTo>
                            <a:pt x="430" y="589"/>
                          </a:lnTo>
                          <a:lnTo>
                            <a:pt x="430" y="598"/>
                          </a:lnTo>
                          <a:lnTo>
                            <a:pt x="426" y="606"/>
                          </a:lnTo>
                          <a:lnTo>
                            <a:pt x="419" y="609"/>
                          </a:lnTo>
                          <a:lnTo>
                            <a:pt x="409" y="610"/>
                          </a:lnTo>
                          <a:lnTo>
                            <a:pt x="388" y="605"/>
                          </a:lnTo>
                          <a:lnTo>
                            <a:pt x="367" y="601"/>
                          </a:lnTo>
                          <a:lnTo>
                            <a:pt x="348" y="598"/>
                          </a:lnTo>
                          <a:lnTo>
                            <a:pt x="314" y="587"/>
                          </a:lnTo>
                          <a:lnTo>
                            <a:pt x="287" y="573"/>
                          </a:lnTo>
                          <a:lnTo>
                            <a:pt x="255" y="555"/>
                          </a:lnTo>
                          <a:lnTo>
                            <a:pt x="232" y="540"/>
                          </a:lnTo>
                          <a:lnTo>
                            <a:pt x="207" y="524"/>
                          </a:lnTo>
                          <a:lnTo>
                            <a:pt x="181" y="505"/>
                          </a:lnTo>
                          <a:lnTo>
                            <a:pt x="156" y="486"/>
                          </a:lnTo>
                          <a:lnTo>
                            <a:pt x="125" y="465"/>
                          </a:lnTo>
                          <a:lnTo>
                            <a:pt x="99" y="450"/>
                          </a:lnTo>
                          <a:lnTo>
                            <a:pt x="66" y="432"/>
                          </a:lnTo>
                          <a:lnTo>
                            <a:pt x="40" y="416"/>
                          </a:lnTo>
                          <a:lnTo>
                            <a:pt x="25" y="405"/>
                          </a:lnTo>
                          <a:lnTo>
                            <a:pt x="11" y="394"/>
                          </a:lnTo>
                          <a:lnTo>
                            <a:pt x="1" y="379"/>
                          </a:lnTo>
                          <a:lnTo>
                            <a:pt x="0" y="365"/>
                          </a:lnTo>
                          <a:lnTo>
                            <a:pt x="4" y="352"/>
                          </a:lnTo>
                          <a:lnTo>
                            <a:pt x="14" y="341"/>
                          </a:lnTo>
                          <a:lnTo>
                            <a:pt x="32" y="328"/>
                          </a:lnTo>
                          <a:lnTo>
                            <a:pt x="66" y="280"/>
                          </a:lnTo>
                          <a:lnTo>
                            <a:pt x="90" y="246"/>
                          </a:lnTo>
                          <a:lnTo>
                            <a:pt x="102" y="220"/>
                          </a:lnTo>
                          <a:lnTo>
                            <a:pt x="167" y="49"/>
                          </a:lnTo>
                          <a:lnTo>
                            <a:pt x="186" y="0"/>
                          </a:lnTo>
                          <a:close/>
                        </a:path>
                      </a:pathLst>
                    </a:custGeom>
                    <a:solidFill>
                      <a:srgbClr val="ffbf1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91" name=""/>
                    <p:cNvGrpSpPr/>
                    <p:nvPr/>
                  </p:nvGrpSpPr>
                  <p:grpSpPr>
                    <a:xfrm>
                      <a:off x="1125000" y="4782240"/>
                      <a:ext cx="469800" cy="176760"/>
                      <a:chOff x="1125000" y="4782240"/>
                      <a:chExt cx="469800" cy="176760"/>
                    </a:xfrm>
                  </p:grpSpPr>
                  <p:sp>
                    <p:nvSpPr>
                      <p:cNvPr id="192" name=""/>
                      <p:cNvSpPr/>
                      <p:nvPr/>
                    </p:nvSpPr>
                    <p:spPr>
                      <a:xfrm>
                        <a:off x="1502280" y="4903920"/>
                        <a:ext cx="37800" cy="55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" h="53">
                            <a:moveTo>
                              <a:pt x="22" y="0"/>
                            </a:moveTo>
                            <a:lnTo>
                              <a:pt x="25" y="7"/>
                            </a:lnTo>
                            <a:lnTo>
                              <a:pt x="27" y="15"/>
                            </a:lnTo>
                            <a:lnTo>
                              <a:pt x="26" y="24"/>
                            </a:lnTo>
                            <a:lnTo>
                              <a:pt x="22" y="36"/>
                            </a:lnTo>
                            <a:lnTo>
                              <a:pt x="18" y="42"/>
                            </a:lnTo>
                            <a:lnTo>
                              <a:pt x="10" y="48"/>
                            </a:lnTo>
                            <a:lnTo>
                              <a:pt x="0" y="53"/>
                            </a:lnTo>
                          </a:path>
                        </a:pathLst>
                      </a:custGeom>
                      <a:noFill/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280" bIns="8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3" name=""/>
                      <p:cNvSpPr/>
                      <p:nvPr/>
                    </p:nvSpPr>
                    <p:spPr>
                      <a:xfrm>
                        <a:off x="1564200" y="4915440"/>
                        <a:ext cx="30600" cy="42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" h="41">
                            <a:moveTo>
                              <a:pt x="15" y="0"/>
                            </a:moveTo>
                            <a:lnTo>
                              <a:pt x="20" y="10"/>
                            </a:lnTo>
                            <a:lnTo>
                              <a:pt x="22" y="16"/>
                            </a:lnTo>
                            <a:lnTo>
                              <a:pt x="20" y="23"/>
                            </a:lnTo>
                            <a:lnTo>
                              <a:pt x="16" y="29"/>
                            </a:lnTo>
                            <a:lnTo>
                              <a:pt x="10" y="34"/>
                            </a:lnTo>
                            <a:lnTo>
                              <a:pt x="0" y="41"/>
                            </a:lnTo>
                          </a:path>
                        </a:pathLst>
                      </a:custGeom>
                      <a:noFill/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" bIns="-4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4" name=""/>
                      <p:cNvSpPr/>
                      <p:nvPr/>
                    </p:nvSpPr>
                    <p:spPr>
                      <a:xfrm>
                        <a:off x="1125000" y="4782240"/>
                        <a:ext cx="54720" cy="105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9" h="101">
                            <a:moveTo>
                              <a:pt x="39" y="0"/>
                            </a:moveTo>
                            <a:lnTo>
                              <a:pt x="27" y="11"/>
                            </a:lnTo>
                            <a:lnTo>
                              <a:pt x="15" y="26"/>
                            </a:lnTo>
                            <a:lnTo>
                              <a:pt x="8" y="40"/>
                            </a:lnTo>
                            <a:lnTo>
                              <a:pt x="3" y="50"/>
                            </a:lnTo>
                            <a:lnTo>
                              <a:pt x="0" y="62"/>
                            </a:lnTo>
                            <a:lnTo>
                              <a:pt x="0" y="73"/>
                            </a:lnTo>
                            <a:lnTo>
                              <a:pt x="3" y="85"/>
                            </a:lnTo>
                            <a:lnTo>
                              <a:pt x="11" y="101"/>
                            </a:lnTo>
                          </a:path>
                        </a:pathLst>
                      </a:custGeom>
                      <a:noFill/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33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95" name=""/>
                <p:cNvGrpSpPr/>
                <p:nvPr/>
              </p:nvGrpSpPr>
              <p:grpSpPr>
                <a:xfrm>
                  <a:off x="732960" y="3068640"/>
                  <a:ext cx="1494720" cy="1468800"/>
                  <a:chOff x="732960" y="3068640"/>
                  <a:chExt cx="1494720" cy="1468800"/>
                </a:xfrm>
              </p:grpSpPr>
              <p:grpSp>
                <p:nvGrpSpPr>
                  <p:cNvPr id="196" name=""/>
                  <p:cNvGrpSpPr/>
                  <p:nvPr/>
                </p:nvGrpSpPr>
                <p:grpSpPr>
                  <a:xfrm>
                    <a:off x="732960" y="3068640"/>
                    <a:ext cx="1494720" cy="1468800"/>
                    <a:chOff x="732960" y="3068640"/>
                    <a:chExt cx="1494720" cy="1468800"/>
                  </a:xfrm>
                </p:grpSpPr>
                <p:grpSp>
                  <p:nvGrpSpPr>
                    <p:cNvPr id="197" name=""/>
                    <p:cNvGrpSpPr/>
                    <p:nvPr/>
                  </p:nvGrpSpPr>
                  <p:grpSpPr>
                    <a:xfrm>
                      <a:off x="732960" y="3199680"/>
                      <a:ext cx="461880" cy="383760"/>
                      <a:chOff x="732960" y="3199680"/>
                      <a:chExt cx="461880" cy="383760"/>
                    </a:xfrm>
                  </p:grpSpPr>
                  <p:grpSp>
                    <p:nvGrpSpPr>
                      <p:cNvPr id="198" name=""/>
                      <p:cNvGrpSpPr/>
                      <p:nvPr/>
                    </p:nvGrpSpPr>
                    <p:grpSpPr>
                      <a:xfrm>
                        <a:off x="732960" y="3339000"/>
                        <a:ext cx="341280" cy="217440"/>
                        <a:chOff x="732960" y="3339000"/>
                        <a:chExt cx="341280" cy="217440"/>
                      </a:xfrm>
                    </p:grpSpPr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732960" y="3339000"/>
                          <a:ext cx="341280" cy="217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43" h="209">
                              <a:moveTo>
                                <a:pt x="140" y="0"/>
                              </a:moveTo>
                              <a:lnTo>
                                <a:pt x="92" y="8"/>
                              </a:lnTo>
                              <a:lnTo>
                                <a:pt x="83" y="12"/>
                              </a:lnTo>
                              <a:lnTo>
                                <a:pt x="93" y="42"/>
                              </a:lnTo>
                              <a:lnTo>
                                <a:pt x="78" y="42"/>
                              </a:lnTo>
                              <a:lnTo>
                                <a:pt x="72" y="45"/>
                              </a:lnTo>
                              <a:lnTo>
                                <a:pt x="66" y="87"/>
                              </a:lnTo>
                              <a:lnTo>
                                <a:pt x="56" y="84"/>
                              </a:lnTo>
                              <a:lnTo>
                                <a:pt x="31" y="96"/>
                              </a:lnTo>
                              <a:lnTo>
                                <a:pt x="5" y="117"/>
                              </a:lnTo>
                              <a:lnTo>
                                <a:pt x="0" y="138"/>
                              </a:lnTo>
                              <a:lnTo>
                                <a:pt x="6" y="158"/>
                              </a:lnTo>
                              <a:lnTo>
                                <a:pt x="17" y="170"/>
                              </a:lnTo>
                              <a:lnTo>
                                <a:pt x="26" y="177"/>
                              </a:lnTo>
                              <a:lnTo>
                                <a:pt x="41" y="173"/>
                              </a:lnTo>
                              <a:lnTo>
                                <a:pt x="59" y="171"/>
                              </a:lnTo>
                              <a:lnTo>
                                <a:pt x="75" y="174"/>
                              </a:lnTo>
                              <a:lnTo>
                                <a:pt x="92" y="179"/>
                              </a:lnTo>
                              <a:lnTo>
                                <a:pt x="110" y="189"/>
                              </a:lnTo>
                              <a:lnTo>
                                <a:pt x="131" y="209"/>
                              </a:lnTo>
                              <a:lnTo>
                                <a:pt x="188" y="207"/>
                              </a:lnTo>
                              <a:lnTo>
                                <a:pt x="243" y="189"/>
                              </a:lnTo>
                              <a:lnTo>
                                <a:pt x="158" y="0"/>
                              </a:lnTo>
                              <a:lnTo>
                                <a:pt x="14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33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828360" y="3429360"/>
                          <a:ext cx="129240" cy="288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8000" bIns="-18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33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862200" y="3381480"/>
                          <a:ext cx="96480" cy="11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5640" bIns="-35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33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02" name=""/>
                      <p:cNvSpPr/>
                      <p:nvPr/>
                    </p:nvSpPr>
                    <p:spPr>
                      <a:xfrm>
                        <a:off x="925200" y="3413880"/>
                        <a:ext cx="132120" cy="145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4" h="140">
                            <a:moveTo>
                              <a:pt x="0" y="12"/>
                            </a:moveTo>
                            <a:lnTo>
                              <a:pt x="49" y="0"/>
                            </a:lnTo>
                            <a:lnTo>
                              <a:pt x="94" y="125"/>
                            </a:lnTo>
                            <a:lnTo>
                              <a:pt x="39" y="140"/>
                            </a:lnTo>
                            <a:lnTo>
                              <a:pt x="0" y="12"/>
                            </a:lnTo>
                            <a:close/>
                          </a:path>
                        </a:pathLst>
                      </a:custGeom>
                      <a:solidFill>
                        <a:srgbClr val="dfdfff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3" name=""/>
                      <p:cNvSpPr/>
                      <p:nvPr/>
                    </p:nvSpPr>
                    <p:spPr>
                      <a:xfrm>
                        <a:off x="880200" y="3453480"/>
                        <a:ext cx="130320" cy="129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125">
                            <a:moveTo>
                              <a:pt x="59" y="0"/>
                            </a:moveTo>
                            <a:lnTo>
                              <a:pt x="30" y="1"/>
                            </a:lnTo>
                            <a:lnTo>
                              <a:pt x="12" y="25"/>
                            </a:lnTo>
                            <a:lnTo>
                              <a:pt x="9" y="37"/>
                            </a:lnTo>
                            <a:lnTo>
                              <a:pt x="12" y="49"/>
                            </a:lnTo>
                            <a:lnTo>
                              <a:pt x="27" y="67"/>
                            </a:lnTo>
                            <a:lnTo>
                              <a:pt x="9" y="85"/>
                            </a:lnTo>
                            <a:lnTo>
                              <a:pt x="0" y="99"/>
                            </a:lnTo>
                            <a:lnTo>
                              <a:pt x="5" y="113"/>
                            </a:lnTo>
                            <a:lnTo>
                              <a:pt x="14" y="125"/>
                            </a:lnTo>
                            <a:lnTo>
                              <a:pt x="41" y="123"/>
                            </a:lnTo>
                            <a:lnTo>
                              <a:pt x="71" y="114"/>
                            </a:lnTo>
                            <a:lnTo>
                              <a:pt x="83" y="99"/>
                            </a:lnTo>
                            <a:lnTo>
                              <a:pt x="93" y="25"/>
                            </a:lnTo>
                            <a:lnTo>
                              <a:pt x="71" y="16"/>
                            </a:lnTo>
                            <a:lnTo>
                              <a:pt x="59" y="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4" name=""/>
                      <p:cNvSpPr/>
                      <p:nvPr/>
                    </p:nvSpPr>
                    <p:spPr>
                      <a:xfrm>
                        <a:off x="893160" y="3199680"/>
                        <a:ext cx="301680" cy="243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5" h="234">
                            <a:moveTo>
                              <a:pt x="89" y="224"/>
                            </a:moveTo>
                            <a:lnTo>
                              <a:pt x="62" y="233"/>
                            </a:lnTo>
                            <a:lnTo>
                              <a:pt x="53" y="234"/>
                            </a:lnTo>
                            <a:lnTo>
                              <a:pt x="45" y="231"/>
                            </a:lnTo>
                            <a:lnTo>
                              <a:pt x="39" y="222"/>
                            </a:lnTo>
                            <a:lnTo>
                              <a:pt x="12" y="179"/>
                            </a:lnTo>
                            <a:lnTo>
                              <a:pt x="0" y="143"/>
                            </a:lnTo>
                            <a:lnTo>
                              <a:pt x="5" y="101"/>
                            </a:lnTo>
                            <a:lnTo>
                              <a:pt x="14" y="62"/>
                            </a:lnTo>
                            <a:lnTo>
                              <a:pt x="21" y="62"/>
                            </a:lnTo>
                            <a:lnTo>
                              <a:pt x="39" y="68"/>
                            </a:lnTo>
                            <a:lnTo>
                              <a:pt x="68" y="83"/>
                            </a:lnTo>
                            <a:lnTo>
                              <a:pt x="71" y="54"/>
                            </a:lnTo>
                            <a:lnTo>
                              <a:pt x="77" y="39"/>
                            </a:lnTo>
                            <a:lnTo>
                              <a:pt x="93" y="32"/>
                            </a:lnTo>
                            <a:lnTo>
                              <a:pt x="114" y="29"/>
                            </a:lnTo>
                            <a:lnTo>
                              <a:pt x="140" y="29"/>
                            </a:lnTo>
                            <a:lnTo>
                              <a:pt x="143" y="18"/>
                            </a:lnTo>
                            <a:lnTo>
                              <a:pt x="146" y="9"/>
                            </a:lnTo>
                            <a:lnTo>
                              <a:pt x="155" y="1"/>
                            </a:lnTo>
                            <a:lnTo>
                              <a:pt x="168" y="0"/>
                            </a:lnTo>
                            <a:lnTo>
                              <a:pt x="191" y="3"/>
                            </a:lnTo>
                            <a:lnTo>
                              <a:pt x="176" y="19"/>
                            </a:lnTo>
                            <a:lnTo>
                              <a:pt x="191" y="45"/>
                            </a:lnTo>
                            <a:lnTo>
                              <a:pt x="215" y="74"/>
                            </a:lnTo>
                            <a:lnTo>
                              <a:pt x="89" y="224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33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05" name=""/>
                    <p:cNvGrpSpPr/>
                    <p:nvPr/>
                  </p:nvGrpSpPr>
                  <p:grpSpPr>
                    <a:xfrm>
                      <a:off x="1266840" y="3068640"/>
                      <a:ext cx="960840" cy="599040"/>
                      <a:chOff x="1266840" y="3068640"/>
                      <a:chExt cx="960840" cy="599040"/>
                    </a:xfrm>
                  </p:grpSpPr>
                  <p:grpSp>
                    <p:nvGrpSpPr>
                      <p:cNvPr id="206" name=""/>
                      <p:cNvGrpSpPr/>
                      <p:nvPr/>
                    </p:nvGrpSpPr>
                    <p:grpSpPr>
                      <a:xfrm>
                        <a:off x="1266840" y="3068640"/>
                        <a:ext cx="587160" cy="599040"/>
                        <a:chOff x="1266840" y="3068640"/>
                        <a:chExt cx="587160" cy="599040"/>
                      </a:xfrm>
                    </p:grpSpPr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1266840" y="3068640"/>
                          <a:ext cx="587160" cy="599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18" h="575">
                              <a:moveTo>
                                <a:pt x="17" y="192"/>
                              </a:moveTo>
                              <a:lnTo>
                                <a:pt x="40" y="148"/>
                              </a:lnTo>
                              <a:lnTo>
                                <a:pt x="71" y="103"/>
                              </a:lnTo>
                              <a:lnTo>
                                <a:pt x="101" y="60"/>
                              </a:lnTo>
                              <a:lnTo>
                                <a:pt x="167" y="24"/>
                              </a:lnTo>
                              <a:lnTo>
                                <a:pt x="159" y="64"/>
                              </a:lnTo>
                              <a:lnTo>
                                <a:pt x="225" y="0"/>
                              </a:lnTo>
                              <a:lnTo>
                                <a:pt x="216" y="21"/>
                              </a:lnTo>
                              <a:lnTo>
                                <a:pt x="210" y="48"/>
                              </a:lnTo>
                              <a:lnTo>
                                <a:pt x="263" y="0"/>
                              </a:lnTo>
                              <a:lnTo>
                                <a:pt x="218" y="66"/>
                              </a:lnTo>
                              <a:lnTo>
                                <a:pt x="212" y="91"/>
                              </a:lnTo>
                              <a:lnTo>
                                <a:pt x="237" y="60"/>
                              </a:lnTo>
                              <a:lnTo>
                                <a:pt x="285" y="39"/>
                              </a:lnTo>
                              <a:lnTo>
                                <a:pt x="332" y="37"/>
                              </a:lnTo>
                              <a:lnTo>
                                <a:pt x="284" y="66"/>
                              </a:lnTo>
                              <a:lnTo>
                                <a:pt x="266" y="102"/>
                              </a:lnTo>
                              <a:lnTo>
                                <a:pt x="269" y="122"/>
                              </a:lnTo>
                              <a:lnTo>
                                <a:pt x="284" y="123"/>
                              </a:lnTo>
                              <a:lnTo>
                                <a:pt x="308" y="135"/>
                              </a:lnTo>
                              <a:lnTo>
                                <a:pt x="342" y="161"/>
                              </a:lnTo>
                              <a:lnTo>
                                <a:pt x="335" y="173"/>
                              </a:lnTo>
                              <a:lnTo>
                                <a:pt x="333" y="183"/>
                              </a:lnTo>
                              <a:lnTo>
                                <a:pt x="338" y="198"/>
                              </a:lnTo>
                              <a:lnTo>
                                <a:pt x="347" y="210"/>
                              </a:lnTo>
                              <a:lnTo>
                                <a:pt x="362" y="222"/>
                              </a:lnTo>
                              <a:lnTo>
                                <a:pt x="382" y="231"/>
                              </a:lnTo>
                              <a:lnTo>
                                <a:pt x="401" y="237"/>
                              </a:lnTo>
                              <a:lnTo>
                                <a:pt x="418" y="240"/>
                              </a:lnTo>
                              <a:lnTo>
                                <a:pt x="395" y="267"/>
                              </a:lnTo>
                              <a:lnTo>
                                <a:pt x="379" y="294"/>
                              </a:lnTo>
                              <a:lnTo>
                                <a:pt x="362" y="324"/>
                              </a:lnTo>
                              <a:lnTo>
                                <a:pt x="347" y="355"/>
                              </a:lnTo>
                              <a:lnTo>
                                <a:pt x="333" y="388"/>
                              </a:lnTo>
                              <a:lnTo>
                                <a:pt x="306" y="404"/>
                              </a:lnTo>
                              <a:lnTo>
                                <a:pt x="265" y="407"/>
                              </a:lnTo>
                              <a:lnTo>
                                <a:pt x="237" y="398"/>
                              </a:lnTo>
                              <a:lnTo>
                                <a:pt x="219" y="392"/>
                              </a:lnTo>
                              <a:lnTo>
                                <a:pt x="202" y="402"/>
                              </a:lnTo>
                              <a:lnTo>
                                <a:pt x="207" y="436"/>
                              </a:lnTo>
                              <a:lnTo>
                                <a:pt x="224" y="474"/>
                              </a:lnTo>
                              <a:lnTo>
                                <a:pt x="234" y="499"/>
                              </a:lnTo>
                              <a:lnTo>
                                <a:pt x="234" y="520"/>
                              </a:lnTo>
                              <a:lnTo>
                                <a:pt x="216" y="575"/>
                              </a:lnTo>
                              <a:lnTo>
                                <a:pt x="12" y="553"/>
                              </a:lnTo>
                              <a:lnTo>
                                <a:pt x="3" y="383"/>
                              </a:lnTo>
                              <a:lnTo>
                                <a:pt x="0" y="284"/>
                              </a:lnTo>
                              <a:lnTo>
                                <a:pt x="6" y="228"/>
                              </a:lnTo>
                              <a:lnTo>
                                <a:pt x="17" y="19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33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1644480" y="3231000"/>
                          <a:ext cx="92520" cy="17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6" h="17">
                              <a:moveTo>
                                <a:pt x="66" y="17"/>
                              </a:moveTo>
                              <a:lnTo>
                                <a:pt x="54" y="11"/>
                              </a:lnTo>
                              <a:lnTo>
                                <a:pt x="39" y="5"/>
                              </a:lnTo>
                              <a:lnTo>
                                <a:pt x="27" y="0"/>
                              </a:lnTo>
                              <a:lnTo>
                                <a:pt x="13" y="3"/>
                              </a:lnTo>
                              <a:lnTo>
                                <a:pt x="0" y="12"/>
                              </a:lnTo>
                            </a:path>
                          </a:pathLst>
                        </a:custGeom>
                        <a:noFill/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33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9" name=""/>
                      <p:cNvGrpSpPr/>
                      <p:nvPr/>
                    </p:nvGrpSpPr>
                    <p:grpSpPr>
                      <a:xfrm>
                        <a:off x="1523880" y="3315600"/>
                        <a:ext cx="703800" cy="292680"/>
                        <a:chOff x="1523880" y="3315600"/>
                        <a:chExt cx="703800" cy="292680"/>
                      </a:xfrm>
                    </p:grpSpPr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1523880" y="3315600"/>
                          <a:ext cx="703800" cy="29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1" h="281">
                              <a:moveTo>
                                <a:pt x="0" y="164"/>
                              </a:moveTo>
                              <a:lnTo>
                                <a:pt x="49" y="132"/>
                              </a:lnTo>
                              <a:lnTo>
                                <a:pt x="115" y="153"/>
                              </a:lnTo>
                              <a:lnTo>
                                <a:pt x="154" y="128"/>
                              </a:lnTo>
                              <a:lnTo>
                                <a:pt x="183" y="77"/>
                              </a:lnTo>
                              <a:lnTo>
                                <a:pt x="215" y="30"/>
                              </a:lnTo>
                              <a:lnTo>
                                <a:pt x="230" y="0"/>
                              </a:lnTo>
                              <a:lnTo>
                                <a:pt x="263" y="3"/>
                              </a:lnTo>
                              <a:lnTo>
                                <a:pt x="285" y="11"/>
                              </a:lnTo>
                              <a:lnTo>
                                <a:pt x="303" y="33"/>
                              </a:lnTo>
                              <a:lnTo>
                                <a:pt x="326" y="63"/>
                              </a:lnTo>
                              <a:lnTo>
                                <a:pt x="350" y="90"/>
                              </a:lnTo>
                              <a:lnTo>
                                <a:pt x="384" y="117"/>
                              </a:lnTo>
                              <a:lnTo>
                                <a:pt x="419" y="141"/>
                              </a:lnTo>
                              <a:lnTo>
                                <a:pt x="446" y="159"/>
                              </a:lnTo>
                              <a:lnTo>
                                <a:pt x="465" y="168"/>
                              </a:lnTo>
                              <a:lnTo>
                                <a:pt x="482" y="172"/>
                              </a:lnTo>
                              <a:lnTo>
                                <a:pt x="501" y="168"/>
                              </a:lnTo>
                              <a:lnTo>
                                <a:pt x="500" y="191"/>
                              </a:lnTo>
                              <a:lnTo>
                                <a:pt x="494" y="215"/>
                              </a:lnTo>
                              <a:lnTo>
                                <a:pt x="476" y="243"/>
                              </a:lnTo>
                              <a:lnTo>
                                <a:pt x="458" y="265"/>
                              </a:lnTo>
                              <a:lnTo>
                                <a:pt x="440" y="275"/>
                              </a:lnTo>
                              <a:lnTo>
                                <a:pt x="419" y="266"/>
                              </a:lnTo>
                              <a:lnTo>
                                <a:pt x="396" y="253"/>
                              </a:lnTo>
                              <a:lnTo>
                                <a:pt x="371" y="242"/>
                              </a:lnTo>
                              <a:lnTo>
                                <a:pt x="342" y="233"/>
                              </a:lnTo>
                              <a:lnTo>
                                <a:pt x="320" y="248"/>
                              </a:lnTo>
                              <a:lnTo>
                                <a:pt x="290" y="266"/>
                              </a:lnTo>
                              <a:lnTo>
                                <a:pt x="269" y="250"/>
                              </a:lnTo>
                              <a:lnTo>
                                <a:pt x="234" y="228"/>
                              </a:lnTo>
                              <a:lnTo>
                                <a:pt x="212" y="240"/>
                              </a:lnTo>
                              <a:lnTo>
                                <a:pt x="181" y="254"/>
                              </a:lnTo>
                              <a:lnTo>
                                <a:pt x="141" y="263"/>
                              </a:lnTo>
                              <a:lnTo>
                                <a:pt x="88" y="275"/>
                              </a:lnTo>
                              <a:lnTo>
                                <a:pt x="48" y="281"/>
                              </a:lnTo>
                              <a:lnTo>
                                <a:pt x="28" y="253"/>
                              </a:lnTo>
                              <a:lnTo>
                                <a:pt x="21" y="236"/>
                              </a:lnTo>
                              <a:lnTo>
                                <a:pt x="7" y="197"/>
                              </a:lnTo>
                              <a:lnTo>
                                <a:pt x="0" y="1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5f00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33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211" name=""/>
                        <p:cNvGrpSpPr/>
                        <p:nvPr/>
                      </p:nvGrpSpPr>
                      <p:grpSpPr>
                        <a:xfrm>
                          <a:off x="1613520" y="3420720"/>
                          <a:ext cx="568080" cy="146520"/>
                          <a:chOff x="1613520" y="3420720"/>
                          <a:chExt cx="568080" cy="146520"/>
                        </a:xfrm>
                      </p:grpSpPr>
                      <p:sp>
                        <p:nvSpPr>
                          <p:cNvPr id="212" name=""/>
                          <p:cNvSpPr/>
                          <p:nvPr/>
                        </p:nvSpPr>
                        <p:spPr>
                          <a:xfrm>
                            <a:off x="1902960" y="3420720"/>
                            <a:ext cx="57240" cy="309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1" h="30">
                                <a:moveTo>
                                  <a:pt x="8" y="0"/>
                                </a:moveTo>
                                <a:lnTo>
                                  <a:pt x="41" y="19"/>
                                </a:lnTo>
                                <a:lnTo>
                                  <a:pt x="0" y="30"/>
                                </a:lnTo>
                              </a:path>
                            </a:pathLst>
                          </a:custGeom>
                          <a:noFill/>
                          <a:ln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5840" bIns="-158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33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3" name=""/>
                          <p:cNvSpPr/>
                          <p:nvPr/>
                        </p:nvSpPr>
                        <p:spPr>
                          <a:xfrm flipH="1">
                            <a:off x="2128680" y="3495600"/>
                            <a:ext cx="52920" cy="2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1960" bIns="-219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33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4" name=""/>
                          <p:cNvSpPr/>
                          <p:nvPr/>
                        </p:nvSpPr>
                        <p:spPr>
                          <a:xfrm>
                            <a:off x="1613520" y="3520440"/>
                            <a:ext cx="70200" cy="46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0" h="45">
                                <a:moveTo>
                                  <a:pt x="50" y="0"/>
                                </a:moveTo>
                                <a:lnTo>
                                  <a:pt x="27" y="10"/>
                                </a:lnTo>
                                <a:lnTo>
                                  <a:pt x="15" y="21"/>
                                </a:lnTo>
                                <a:lnTo>
                                  <a:pt x="8" y="31"/>
                                </a:lnTo>
                                <a:lnTo>
                                  <a:pt x="0" y="45"/>
                                </a:lnTo>
                              </a:path>
                            </a:pathLst>
                          </a:custGeom>
                          <a:noFill/>
                          <a:ln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0" bIns="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33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>
                            <a:off x="1634400" y="3520440"/>
                            <a:ext cx="369360" cy="35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63" h="34">
                                <a:moveTo>
                                  <a:pt x="0" y="25"/>
                                </a:moveTo>
                                <a:lnTo>
                                  <a:pt x="33" y="16"/>
                                </a:lnTo>
                                <a:lnTo>
                                  <a:pt x="72" y="9"/>
                                </a:lnTo>
                                <a:lnTo>
                                  <a:pt x="105" y="2"/>
                                </a:lnTo>
                                <a:lnTo>
                                  <a:pt x="134" y="0"/>
                                </a:lnTo>
                                <a:lnTo>
                                  <a:pt x="164" y="3"/>
                                </a:lnTo>
                                <a:lnTo>
                                  <a:pt x="194" y="9"/>
                                </a:lnTo>
                                <a:lnTo>
                                  <a:pt x="226" y="18"/>
                                </a:lnTo>
                                <a:lnTo>
                                  <a:pt x="263" y="34"/>
                                </a:lnTo>
                              </a:path>
                            </a:pathLst>
                          </a:custGeom>
                          <a:noFill/>
                          <a:ln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1520" bIns="-11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33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216" name=""/>
                    <p:cNvGrpSpPr/>
                    <p:nvPr/>
                  </p:nvGrpSpPr>
                  <p:grpSpPr>
                    <a:xfrm>
                      <a:off x="955080" y="3977280"/>
                      <a:ext cx="778320" cy="560160"/>
                      <a:chOff x="955080" y="3977280"/>
                      <a:chExt cx="778320" cy="560160"/>
                    </a:xfrm>
                  </p:grpSpPr>
                  <p:sp>
                    <p:nvSpPr>
                      <p:cNvPr id="217" name=""/>
                      <p:cNvSpPr/>
                      <p:nvPr/>
                    </p:nvSpPr>
                    <p:spPr>
                      <a:xfrm>
                        <a:off x="1393200" y="4321800"/>
                        <a:ext cx="230040" cy="200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4" h="193">
                            <a:moveTo>
                              <a:pt x="110" y="0"/>
                            </a:moveTo>
                            <a:lnTo>
                              <a:pt x="164" y="0"/>
                            </a:lnTo>
                            <a:lnTo>
                              <a:pt x="159" y="28"/>
                            </a:lnTo>
                            <a:lnTo>
                              <a:pt x="153" y="58"/>
                            </a:lnTo>
                            <a:lnTo>
                              <a:pt x="141" y="85"/>
                            </a:lnTo>
                            <a:lnTo>
                              <a:pt x="125" y="108"/>
                            </a:lnTo>
                            <a:lnTo>
                              <a:pt x="102" y="132"/>
                            </a:lnTo>
                            <a:lnTo>
                              <a:pt x="80" y="151"/>
                            </a:lnTo>
                            <a:lnTo>
                              <a:pt x="56" y="177"/>
                            </a:lnTo>
                            <a:lnTo>
                              <a:pt x="44" y="189"/>
                            </a:lnTo>
                            <a:lnTo>
                              <a:pt x="35" y="192"/>
                            </a:lnTo>
                            <a:lnTo>
                              <a:pt x="21" y="193"/>
                            </a:lnTo>
                            <a:lnTo>
                              <a:pt x="0" y="177"/>
                            </a:lnTo>
                            <a:lnTo>
                              <a:pt x="110" y="0"/>
                            </a:lnTo>
                            <a:close/>
                          </a:path>
                        </a:pathLst>
                      </a:custGeom>
                      <a:solidFill>
                        <a:srgbClr val="dfdfff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8" name=""/>
                      <p:cNvSpPr/>
                      <p:nvPr/>
                    </p:nvSpPr>
                    <p:spPr>
                      <a:xfrm>
                        <a:off x="955080" y="3977280"/>
                        <a:ext cx="778320" cy="56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54" h="538">
                            <a:moveTo>
                              <a:pt x="212" y="397"/>
                            </a:moveTo>
                            <a:lnTo>
                              <a:pt x="209" y="428"/>
                            </a:lnTo>
                            <a:lnTo>
                              <a:pt x="211" y="461"/>
                            </a:lnTo>
                            <a:lnTo>
                              <a:pt x="218" y="494"/>
                            </a:lnTo>
                            <a:lnTo>
                              <a:pt x="224" y="512"/>
                            </a:lnTo>
                            <a:lnTo>
                              <a:pt x="235" y="525"/>
                            </a:lnTo>
                            <a:lnTo>
                              <a:pt x="249" y="524"/>
                            </a:lnTo>
                            <a:lnTo>
                              <a:pt x="266" y="520"/>
                            </a:lnTo>
                            <a:lnTo>
                              <a:pt x="275" y="530"/>
                            </a:lnTo>
                            <a:lnTo>
                              <a:pt x="286" y="536"/>
                            </a:lnTo>
                            <a:lnTo>
                              <a:pt x="299" y="538"/>
                            </a:lnTo>
                            <a:lnTo>
                              <a:pt x="312" y="535"/>
                            </a:lnTo>
                            <a:lnTo>
                              <a:pt x="326" y="524"/>
                            </a:lnTo>
                            <a:lnTo>
                              <a:pt x="339" y="509"/>
                            </a:lnTo>
                            <a:lnTo>
                              <a:pt x="355" y="491"/>
                            </a:lnTo>
                            <a:lnTo>
                              <a:pt x="372" y="472"/>
                            </a:lnTo>
                            <a:lnTo>
                              <a:pt x="388" y="453"/>
                            </a:lnTo>
                            <a:lnTo>
                              <a:pt x="407" y="431"/>
                            </a:lnTo>
                            <a:lnTo>
                              <a:pt x="432" y="394"/>
                            </a:lnTo>
                            <a:lnTo>
                              <a:pt x="455" y="365"/>
                            </a:lnTo>
                            <a:lnTo>
                              <a:pt x="483" y="340"/>
                            </a:lnTo>
                            <a:lnTo>
                              <a:pt x="503" y="325"/>
                            </a:lnTo>
                            <a:lnTo>
                              <a:pt x="522" y="303"/>
                            </a:lnTo>
                            <a:lnTo>
                              <a:pt x="540" y="275"/>
                            </a:lnTo>
                            <a:lnTo>
                              <a:pt x="549" y="247"/>
                            </a:lnTo>
                            <a:lnTo>
                              <a:pt x="554" y="213"/>
                            </a:lnTo>
                            <a:lnTo>
                              <a:pt x="543" y="168"/>
                            </a:lnTo>
                            <a:lnTo>
                              <a:pt x="127" y="50"/>
                            </a:lnTo>
                            <a:lnTo>
                              <a:pt x="105" y="47"/>
                            </a:lnTo>
                            <a:lnTo>
                              <a:pt x="79" y="24"/>
                            </a:lnTo>
                            <a:lnTo>
                              <a:pt x="46" y="0"/>
                            </a:lnTo>
                            <a:lnTo>
                              <a:pt x="0" y="33"/>
                            </a:lnTo>
                            <a:lnTo>
                              <a:pt x="13" y="53"/>
                            </a:lnTo>
                            <a:lnTo>
                              <a:pt x="36" y="75"/>
                            </a:lnTo>
                            <a:lnTo>
                              <a:pt x="16" y="87"/>
                            </a:lnTo>
                            <a:lnTo>
                              <a:pt x="1" y="104"/>
                            </a:lnTo>
                            <a:lnTo>
                              <a:pt x="22" y="116"/>
                            </a:lnTo>
                            <a:lnTo>
                              <a:pt x="36" y="130"/>
                            </a:lnTo>
                            <a:lnTo>
                              <a:pt x="45" y="152"/>
                            </a:lnTo>
                            <a:lnTo>
                              <a:pt x="48" y="170"/>
                            </a:lnTo>
                            <a:lnTo>
                              <a:pt x="13" y="164"/>
                            </a:lnTo>
                            <a:lnTo>
                              <a:pt x="10" y="183"/>
                            </a:lnTo>
                            <a:lnTo>
                              <a:pt x="16" y="209"/>
                            </a:lnTo>
                            <a:lnTo>
                              <a:pt x="34" y="235"/>
                            </a:lnTo>
                            <a:lnTo>
                              <a:pt x="53" y="253"/>
                            </a:lnTo>
                            <a:lnTo>
                              <a:pt x="81" y="267"/>
                            </a:lnTo>
                            <a:lnTo>
                              <a:pt x="108" y="274"/>
                            </a:lnTo>
                            <a:lnTo>
                              <a:pt x="112" y="301"/>
                            </a:lnTo>
                            <a:lnTo>
                              <a:pt x="129" y="325"/>
                            </a:lnTo>
                            <a:lnTo>
                              <a:pt x="151" y="352"/>
                            </a:lnTo>
                            <a:lnTo>
                              <a:pt x="179" y="377"/>
                            </a:lnTo>
                            <a:lnTo>
                              <a:pt x="212" y="397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33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1352880" y="3200760"/>
                    <a:ext cx="561600" cy="272880"/>
                    <a:chOff x="1352880" y="3200760"/>
                    <a:chExt cx="561600" cy="27288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>
                      <a:off x="1352880" y="3293280"/>
                      <a:ext cx="417240" cy="7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7" h="74">
                          <a:moveTo>
                            <a:pt x="0" y="53"/>
                          </a:moveTo>
                          <a:lnTo>
                            <a:pt x="21" y="26"/>
                          </a:lnTo>
                          <a:lnTo>
                            <a:pt x="48" y="4"/>
                          </a:lnTo>
                          <a:lnTo>
                            <a:pt x="70" y="0"/>
                          </a:lnTo>
                          <a:lnTo>
                            <a:pt x="297" y="29"/>
                          </a:lnTo>
                          <a:lnTo>
                            <a:pt x="291" y="59"/>
                          </a:lnTo>
                          <a:lnTo>
                            <a:pt x="246" y="57"/>
                          </a:lnTo>
                          <a:lnTo>
                            <a:pt x="143" y="53"/>
                          </a:lnTo>
                          <a:lnTo>
                            <a:pt x="76" y="50"/>
                          </a:lnTo>
                          <a:lnTo>
                            <a:pt x="63" y="54"/>
                          </a:lnTo>
                          <a:lnTo>
                            <a:pt x="45" y="74"/>
                          </a:lnTo>
                          <a:lnTo>
                            <a:pt x="0" y="53"/>
                          </a:lnTo>
                          <a:close/>
                        </a:path>
                      </a:pathLst>
                    </a:custGeom>
                    <a:solidFill>
                      <a:srgbClr val="bf7f3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880" bIns="29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>
                      <a:off x="1852920" y="3230640"/>
                      <a:ext cx="61560" cy="11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" h="110">
                          <a:moveTo>
                            <a:pt x="14" y="0"/>
                          </a:moveTo>
                          <a:lnTo>
                            <a:pt x="29" y="15"/>
                          </a:lnTo>
                          <a:lnTo>
                            <a:pt x="36" y="29"/>
                          </a:lnTo>
                          <a:lnTo>
                            <a:pt x="41" y="47"/>
                          </a:lnTo>
                          <a:lnTo>
                            <a:pt x="44" y="64"/>
                          </a:lnTo>
                          <a:lnTo>
                            <a:pt x="39" y="80"/>
                          </a:lnTo>
                          <a:lnTo>
                            <a:pt x="30" y="94"/>
                          </a:lnTo>
                          <a:lnTo>
                            <a:pt x="16" y="104"/>
                          </a:lnTo>
                          <a:lnTo>
                            <a:pt x="0" y="110"/>
                          </a:lnTo>
                          <a:lnTo>
                            <a:pt x="14" y="0"/>
                          </a:lnTo>
                          <a:close/>
                        </a:path>
                      </a:pathLst>
                    </a:custGeom>
                    <a:solidFill>
                      <a:srgbClr val="9fbff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1813320" y="3200760"/>
                      <a:ext cx="81360" cy="14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8" h="143">
                          <a:moveTo>
                            <a:pt x="0" y="118"/>
                          </a:moveTo>
                          <a:lnTo>
                            <a:pt x="27" y="0"/>
                          </a:lnTo>
                          <a:lnTo>
                            <a:pt x="58" y="15"/>
                          </a:lnTo>
                          <a:lnTo>
                            <a:pt x="31" y="143"/>
                          </a:lnTo>
                          <a:lnTo>
                            <a:pt x="3" y="140"/>
                          </a:lnTo>
                          <a:lnTo>
                            <a:pt x="0" y="118"/>
                          </a:lnTo>
                          <a:close/>
                        </a:path>
                      </a:pathLst>
                    </a:custGeom>
                    <a:solidFill>
                      <a:srgbClr val="bf7f3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1774080" y="3227760"/>
                      <a:ext cx="79920" cy="234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7" h="225">
                          <a:moveTo>
                            <a:pt x="25" y="0"/>
                          </a:moveTo>
                          <a:lnTo>
                            <a:pt x="40" y="12"/>
                          </a:lnTo>
                          <a:lnTo>
                            <a:pt x="49" y="29"/>
                          </a:lnTo>
                          <a:lnTo>
                            <a:pt x="54" y="49"/>
                          </a:lnTo>
                          <a:lnTo>
                            <a:pt x="57" y="71"/>
                          </a:lnTo>
                          <a:lnTo>
                            <a:pt x="56" y="92"/>
                          </a:lnTo>
                          <a:lnTo>
                            <a:pt x="51" y="122"/>
                          </a:lnTo>
                          <a:lnTo>
                            <a:pt x="44" y="149"/>
                          </a:lnTo>
                          <a:lnTo>
                            <a:pt x="34" y="177"/>
                          </a:lnTo>
                          <a:lnTo>
                            <a:pt x="19" y="200"/>
                          </a:lnTo>
                          <a:lnTo>
                            <a:pt x="0" y="225"/>
                          </a:lnTo>
                          <a:lnTo>
                            <a:pt x="25" y="0"/>
                          </a:lnTo>
                          <a:close/>
                        </a:path>
                      </a:pathLst>
                    </a:custGeom>
                    <a:solidFill>
                      <a:srgbClr val="9fbff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1727640" y="3206160"/>
                      <a:ext cx="104040" cy="26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4" h="257">
                          <a:moveTo>
                            <a:pt x="36" y="0"/>
                          </a:moveTo>
                          <a:lnTo>
                            <a:pt x="74" y="4"/>
                          </a:lnTo>
                          <a:lnTo>
                            <a:pt x="36" y="257"/>
                          </a:lnTo>
                          <a:lnTo>
                            <a:pt x="0" y="254"/>
                          </a:lnTo>
                          <a:lnTo>
                            <a:pt x="36" y="0"/>
                          </a:lnTo>
                          <a:close/>
                        </a:path>
                      </a:pathLst>
                    </a:custGeom>
                    <a:solidFill>
                      <a:srgbClr val="bf7f3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25" name=""/>
              <p:cNvGrpSpPr/>
              <p:nvPr/>
            </p:nvGrpSpPr>
            <p:grpSpPr>
              <a:xfrm>
                <a:off x="975960" y="3250800"/>
                <a:ext cx="799200" cy="1054440"/>
                <a:chOff x="975960" y="3250800"/>
                <a:chExt cx="799200" cy="1054440"/>
              </a:xfrm>
            </p:grpSpPr>
            <p:grpSp>
              <p:nvGrpSpPr>
                <p:cNvPr id="226" name=""/>
                <p:cNvGrpSpPr/>
                <p:nvPr/>
              </p:nvGrpSpPr>
              <p:grpSpPr>
                <a:xfrm>
                  <a:off x="975960" y="3250800"/>
                  <a:ext cx="799200" cy="1054440"/>
                  <a:chOff x="975960" y="3250800"/>
                  <a:chExt cx="799200" cy="1054440"/>
                </a:xfrm>
              </p:grpSpPr>
              <p:grpSp>
                <p:nvGrpSpPr>
                  <p:cNvPr id="227" name=""/>
                  <p:cNvGrpSpPr/>
                  <p:nvPr/>
                </p:nvGrpSpPr>
                <p:grpSpPr>
                  <a:xfrm>
                    <a:off x="1374840" y="3622680"/>
                    <a:ext cx="348120" cy="190080"/>
                    <a:chOff x="1374840" y="3622680"/>
                    <a:chExt cx="348120" cy="190080"/>
                  </a:xfrm>
                </p:grpSpPr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1374840" y="3622680"/>
                      <a:ext cx="243000" cy="12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3" h="117">
                          <a:moveTo>
                            <a:pt x="0" y="55"/>
                          </a:moveTo>
                          <a:lnTo>
                            <a:pt x="39" y="0"/>
                          </a:lnTo>
                          <a:lnTo>
                            <a:pt x="169" y="12"/>
                          </a:lnTo>
                          <a:lnTo>
                            <a:pt x="173" y="27"/>
                          </a:lnTo>
                          <a:lnTo>
                            <a:pt x="170" y="45"/>
                          </a:lnTo>
                          <a:lnTo>
                            <a:pt x="140" y="64"/>
                          </a:lnTo>
                          <a:lnTo>
                            <a:pt x="82" y="117"/>
                          </a:lnTo>
                          <a:lnTo>
                            <a:pt x="0" y="55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1487160" y="3663000"/>
                      <a:ext cx="235800" cy="14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8" h="144">
                          <a:moveTo>
                            <a:pt x="0" y="84"/>
                          </a:moveTo>
                          <a:lnTo>
                            <a:pt x="58" y="12"/>
                          </a:lnTo>
                          <a:lnTo>
                            <a:pt x="85" y="27"/>
                          </a:lnTo>
                          <a:lnTo>
                            <a:pt x="97" y="12"/>
                          </a:lnTo>
                          <a:lnTo>
                            <a:pt x="127" y="0"/>
                          </a:lnTo>
                          <a:lnTo>
                            <a:pt x="138" y="21"/>
                          </a:lnTo>
                          <a:lnTo>
                            <a:pt x="150" y="26"/>
                          </a:lnTo>
                          <a:lnTo>
                            <a:pt x="150" y="43"/>
                          </a:lnTo>
                          <a:lnTo>
                            <a:pt x="168" y="49"/>
                          </a:lnTo>
                          <a:lnTo>
                            <a:pt x="164" y="59"/>
                          </a:lnTo>
                          <a:lnTo>
                            <a:pt x="116" y="78"/>
                          </a:lnTo>
                          <a:lnTo>
                            <a:pt x="125" y="104"/>
                          </a:lnTo>
                          <a:lnTo>
                            <a:pt x="120" y="120"/>
                          </a:lnTo>
                          <a:lnTo>
                            <a:pt x="108" y="123"/>
                          </a:lnTo>
                          <a:lnTo>
                            <a:pt x="93" y="115"/>
                          </a:lnTo>
                          <a:lnTo>
                            <a:pt x="90" y="144"/>
                          </a:lnTo>
                          <a:lnTo>
                            <a:pt x="0" y="84"/>
                          </a:lnTo>
                          <a:close/>
                        </a:path>
                      </a:pathLst>
                    </a:custGeom>
                    <a:solidFill>
                      <a:srgbClr val="ff001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975960" y="3250800"/>
                    <a:ext cx="799200" cy="1054440"/>
                    <a:chOff x="975960" y="3250800"/>
                    <a:chExt cx="799200" cy="1054440"/>
                  </a:xfrm>
                </p:grpSpPr>
                <p:grpSp>
                  <p:nvGrpSpPr>
                    <p:cNvPr id="231" name=""/>
                    <p:cNvGrpSpPr/>
                    <p:nvPr/>
                  </p:nvGrpSpPr>
                  <p:grpSpPr>
                    <a:xfrm>
                      <a:off x="975960" y="3250800"/>
                      <a:ext cx="799200" cy="1054440"/>
                      <a:chOff x="975960" y="3250800"/>
                      <a:chExt cx="799200" cy="1054440"/>
                    </a:xfrm>
                  </p:grpSpPr>
                  <p:grpSp>
                    <p:nvGrpSpPr>
                      <p:cNvPr id="232" name=""/>
                      <p:cNvGrpSpPr/>
                      <p:nvPr/>
                    </p:nvGrpSpPr>
                    <p:grpSpPr>
                      <a:xfrm>
                        <a:off x="975960" y="3250800"/>
                        <a:ext cx="799200" cy="1054440"/>
                        <a:chOff x="975960" y="3250800"/>
                        <a:chExt cx="799200" cy="1054440"/>
                      </a:xfrm>
                    </p:grpSpPr>
                    <p:grpSp>
                      <p:nvGrpSpPr>
                        <p:cNvPr id="233" name=""/>
                        <p:cNvGrpSpPr/>
                        <p:nvPr/>
                      </p:nvGrpSpPr>
                      <p:grpSpPr>
                        <a:xfrm>
                          <a:off x="975960" y="3250800"/>
                          <a:ext cx="273960" cy="318960"/>
                          <a:chOff x="975960" y="3250800"/>
                          <a:chExt cx="273960" cy="318960"/>
                        </a:xfrm>
                      </p:grpSpPr>
                      <p:sp>
                        <p:nvSpPr>
                          <p:cNvPr id="234" name=""/>
                          <p:cNvSpPr/>
                          <p:nvPr/>
                        </p:nvSpPr>
                        <p:spPr>
                          <a:xfrm>
                            <a:off x="1098000" y="3459240"/>
                            <a:ext cx="147240" cy="1105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05" h="106">
                                <a:moveTo>
                                  <a:pt x="0" y="39"/>
                                </a:moveTo>
                                <a:lnTo>
                                  <a:pt x="18" y="85"/>
                                </a:lnTo>
                                <a:lnTo>
                                  <a:pt x="34" y="106"/>
                                </a:lnTo>
                                <a:lnTo>
                                  <a:pt x="105" y="73"/>
                                </a:lnTo>
                                <a:lnTo>
                                  <a:pt x="64" y="0"/>
                                </a:lnTo>
                                <a:lnTo>
                                  <a:pt x="0" y="39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80"/>
                          </a:solidFill>
                          <a:ln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33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235" name=""/>
                          <p:cNvGrpSpPr/>
                          <p:nvPr/>
                        </p:nvGrpSpPr>
                        <p:grpSpPr>
                          <a:xfrm>
                            <a:off x="975960" y="3250800"/>
                            <a:ext cx="273960" cy="316440"/>
                            <a:chOff x="975960" y="3250800"/>
                            <a:chExt cx="273960" cy="316440"/>
                          </a:xfrm>
                        </p:grpSpPr>
                        <p:grpSp>
                          <p:nvGrpSpPr>
                            <p:cNvPr id="236" name=""/>
                            <p:cNvGrpSpPr/>
                            <p:nvPr/>
                          </p:nvGrpSpPr>
                          <p:grpSpPr>
                            <a:xfrm>
                              <a:off x="975960" y="3250800"/>
                              <a:ext cx="273960" cy="316440"/>
                              <a:chOff x="975960" y="3250800"/>
                              <a:chExt cx="273960" cy="316440"/>
                            </a:xfrm>
                          </p:grpSpPr>
                          <p:sp>
                            <p:nvSpPr>
                              <p:cNvPr id="237" name=""/>
                              <p:cNvSpPr/>
                              <p:nvPr/>
                            </p:nvSpPr>
                            <p:spPr>
                              <a:xfrm>
                                <a:off x="1017720" y="3430800"/>
                                <a:ext cx="123480" cy="1364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88" h="131">
                                    <a:moveTo>
                                      <a:pt x="0" y="4"/>
                                    </a:moveTo>
                                    <a:lnTo>
                                      <a:pt x="2" y="59"/>
                                    </a:lnTo>
                                    <a:lnTo>
                                      <a:pt x="11" y="79"/>
                                    </a:lnTo>
                                    <a:lnTo>
                                      <a:pt x="22" y="103"/>
                                    </a:lnTo>
                                    <a:lnTo>
                                      <a:pt x="30" y="117"/>
                                    </a:lnTo>
                                    <a:lnTo>
                                      <a:pt x="41" y="131"/>
                                    </a:lnTo>
                                    <a:lnTo>
                                      <a:pt x="58" y="124"/>
                                    </a:lnTo>
                                    <a:lnTo>
                                      <a:pt x="88" y="118"/>
                                    </a:lnTo>
                                    <a:lnTo>
                                      <a:pt x="67" y="0"/>
                                    </a:lnTo>
                                    <a:lnTo>
                                      <a:pt x="0" y="4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c0c0c0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33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38" name=""/>
                              <p:cNvSpPr/>
                              <p:nvPr/>
                            </p:nvSpPr>
                            <p:spPr>
                              <a:xfrm>
                                <a:off x="975960" y="3250800"/>
                                <a:ext cx="273960" cy="220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95" h="212">
                                    <a:moveTo>
                                      <a:pt x="0" y="198"/>
                                    </a:moveTo>
                                    <a:lnTo>
                                      <a:pt x="9" y="166"/>
                                    </a:lnTo>
                                    <a:lnTo>
                                      <a:pt x="18" y="145"/>
                                    </a:lnTo>
                                    <a:lnTo>
                                      <a:pt x="38" y="115"/>
                                    </a:lnTo>
                                    <a:lnTo>
                                      <a:pt x="74" y="76"/>
                                    </a:lnTo>
                                    <a:lnTo>
                                      <a:pt x="110" y="38"/>
                                    </a:lnTo>
                                    <a:lnTo>
                                      <a:pt x="147" y="0"/>
                                    </a:lnTo>
                                    <a:lnTo>
                                      <a:pt x="158" y="1"/>
                                    </a:lnTo>
                                    <a:lnTo>
                                      <a:pt x="195" y="37"/>
                                    </a:lnTo>
                                    <a:lnTo>
                                      <a:pt x="82" y="212"/>
                                    </a:lnTo>
                                    <a:lnTo>
                                      <a:pt x="0" y="198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c0c0c0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33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239" name=""/>
                            <p:cNvSpPr/>
                            <p:nvPr/>
                          </p:nvSpPr>
                          <p:spPr>
                            <a:xfrm>
                              <a:off x="1158480" y="3273480"/>
                              <a:ext cx="44640" cy="41760"/>
                            </a:xfrm>
                            <a:prstGeom prst="ellipse">
                              <a:avLst/>
                            </a:prstGeom>
                            <a:solidFill>
                              <a:srgbClr val="ff9f00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7280" bIns="-1728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33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>
                          <a:off x="1061640" y="3266280"/>
                          <a:ext cx="713520" cy="1038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8" h="997">
                              <a:moveTo>
                                <a:pt x="0" y="227"/>
                              </a:moveTo>
                              <a:lnTo>
                                <a:pt x="11" y="183"/>
                              </a:lnTo>
                              <a:lnTo>
                                <a:pt x="30" y="143"/>
                              </a:lnTo>
                              <a:lnTo>
                                <a:pt x="54" y="107"/>
                              </a:lnTo>
                              <a:lnTo>
                                <a:pt x="78" y="71"/>
                              </a:lnTo>
                              <a:lnTo>
                                <a:pt x="110" y="36"/>
                              </a:lnTo>
                              <a:lnTo>
                                <a:pt x="134" y="0"/>
                              </a:lnTo>
                              <a:lnTo>
                                <a:pt x="163" y="12"/>
                              </a:lnTo>
                              <a:lnTo>
                                <a:pt x="191" y="30"/>
                              </a:lnTo>
                              <a:lnTo>
                                <a:pt x="221" y="51"/>
                              </a:lnTo>
                              <a:lnTo>
                                <a:pt x="251" y="80"/>
                              </a:lnTo>
                              <a:lnTo>
                                <a:pt x="280" y="104"/>
                              </a:lnTo>
                              <a:lnTo>
                                <a:pt x="325" y="153"/>
                              </a:lnTo>
                              <a:lnTo>
                                <a:pt x="317" y="194"/>
                              </a:lnTo>
                              <a:lnTo>
                                <a:pt x="305" y="246"/>
                              </a:lnTo>
                              <a:lnTo>
                                <a:pt x="295" y="299"/>
                              </a:lnTo>
                              <a:lnTo>
                                <a:pt x="289" y="337"/>
                              </a:lnTo>
                              <a:lnTo>
                                <a:pt x="286" y="358"/>
                              </a:lnTo>
                              <a:lnTo>
                                <a:pt x="272" y="394"/>
                              </a:lnTo>
                              <a:lnTo>
                                <a:pt x="448" y="569"/>
                              </a:lnTo>
                              <a:lnTo>
                                <a:pt x="469" y="619"/>
                              </a:lnTo>
                              <a:lnTo>
                                <a:pt x="484" y="669"/>
                              </a:lnTo>
                              <a:lnTo>
                                <a:pt x="502" y="717"/>
                              </a:lnTo>
                              <a:lnTo>
                                <a:pt x="508" y="750"/>
                              </a:lnTo>
                              <a:lnTo>
                                <a:pt x="505" y="790"/>
                              </a:lnTo>
                              <a:lnTo>
                                <a:pt x="503" y="822"/>
                              </a:lnTo>
                              <a:lnTo>
                                <a:pt x="493" y="873"/>
                              </a:lnTo>
                              <a:lnTo>
                                <a:pt x="373" y="997"/>
                              </a:lnTo>
                              <a:lnTo>
                                <a:pt x="317" y="994"/>
                              </a:lnTo>
                              <a:lnTo>
                                <a:pt x="158" y="977"/>
                              </a:lnTo>
                              <a:lnTo>
                                <a:pt x="84" y="890"/>
                              </a:lnTo>
                              <a:lnTo>
                                <a:pt x="75" y="849"/>
                              </a:lnTo>
                              <a:lnTo>
                                <a:pt x="59" y="789"/>
                              </a:lnTo>
                              <a:lnTo>
                                <a:pt x="36" y="736"/>
                              </a:lnTo>
                              <a:lnTo>
                                <a:pt x="26" y="684"/>
                              </a:lnTo>
                              <a:lnTo>
                                <a:pt x="42" y="687"/>
                              </a:lnTo>
                              <a:lnTo>
                                <a:pt x="75" y="720"/>
                              </a:lnTo>
                              <a:lnTo>
                                <a:pt x="109" y="730"/>
                              </a:lnTo>
                              <a:lnTo>
                                <a:pt x="116" y="718"/>
                              </a:lnTo>
                              <a:lnTo>
                                <a:pt x="131" y="717"/>
                              </a:lnTo>
                              <a:lnTo>
                                <a:pt x="134" y="660"/>
                              </a:lnTo>
                              <a:lnTo>
                                <a:pt x="139" y="601"/>
                              </a:lnTo>
                              <a:lnTo>
                                <a:pt x="52" y="513"/>
                              </a:lnTo>
                              <a:lnTo>
                                <a:pt x="92" y="353"/>
                              </a:lnTo>
                              <a:lnTo>
                                <a:pt x="112" y="293"/>
                              </a:lnTo>
                              <a:lnTo>
                                <a:pt x="94" y="287"/>
                              </a:lnTo>
                              <a:lnTo>
                                <a:pt x="107" y="273"/>
                              </a:lnTo>
                              <a:lnTo>
                                <a:pt x="56" y="246"/>
                              </a:lnTo>
                              <a:lnTo>
                                <a:pt x="0" y="227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ff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33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41" name=""/>
                      <p:cNvGrpSpPr/>
                      <p:nvPr/>
                    </p:nvGrpSpPr>
                    <p:grpSpPr>
                      <a:xfrm>
                        <a:off x="1211760" y="3516480"/>
                        <a:ext cx="115920" cy="549720"/>
                        <a:chOff x="1211760" y="3516480"/>
                        <a:chExt cx="115920" cy="549720"/>
                      </a:xfrm>
                    </p:grpSpPr>
                    <p:grpSp>
                      <p:nvGrpSpPr>
                        <p:cNvPr id="242" name=""/>
                        <p:cNvGrpSpPr/>
                        <p:nvPr/>
                      </p:nvGrpSpPr>
                      <p:grpSpPr>
                        <a:xfrm>
                          <a:off x="1211760" y="3516480"/>
                          <a:ext cx="106200" cy="54360"/>
                          <a:chOff x="1211760" y="3516480"/>
                          <a:chExt cx="106200" cy="54360"/>
                        </a:xfrm>
                      </p:grpSpPr>
                      <p:sp>
                        <p:nvSpPr>
                          <p:cNvPr id="243" name=""/>
                          <p:cNvSpPr/>
                          <p:nvPr/>
                        </p:nvSpPr>
                        <p:spPr>
                          <a:xfrm flipV="1">
                            <a:off x="1211760" y="3516480"/>
                            <a:ext cx="93600" cy="33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3680" bIns="-136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33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44" name=""/>
                          <p:cNvSpPr/>
                          <p:nvPr/>
                        </p:nvSpPr>
                        <p:spPr>
                          <a:xfrm flipV="1">
                            <a:off x="1219680" y="3558600"/>
                            <a:ext cx="98280" cy="12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4560" bIns="-345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33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45" name=""/>
                        <p:cNvGrpSpPr/>
                        <p:nvPr/>
                      </p:nvGrpSpPr>
                      <p:grpSpPr>
                        <a:xfrm>
                          <a:off x="1214280" y="3892680"/>
                          <a:ext cx="113400" cy="173520"/>
                          <a:chOff x="1214280" y="3892680"/>
                          <a:chExt cx="113400" cy="173520"/>
                        </a:xfrm>
                      </p:grpSpPr>
                      <p:sp>
                        <p:nvSpPr>
                          <p:cNvPr id="246" name=""/>
                          <p:cNvSpPr/>
                          <p:nvPr/>
                        </p:nvSpPr>
                        <p:spPr>
                          <a:xfrm>
                            <a:off x="1256040" y="3892680"/>
                            <a:ext cx="71640" cy="100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1" h="10">
                                <a:moveTo>
                                  <a:pt x="0" y="0"/>
                                </a:moveTo>
                                <a:lnTo>
                                  <a:pt x="13" y="10"/>
                                </a:lnTo>
                                <a:lnTo>
                                  <a:pt x="51" y="4"/>
                                </a:lnTo>
                              </a:path>
                            </a:pathLst>
                          </a:custGeom>
                          <a:noFill/>
                          <a:ln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6720" bIns="-36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33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47" name=""/>
                          <p:cNvSpPr/>
                          <p:nvPr/>
                        </p:nvSpPr>
                        <p:spPr>
                          <a:xfrm>
                            <a:off x="1247760" y="4013280"/>
                            <a:ext cx="50040" cy="478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6" h="46">
                                <a:moveTo>
                                  <a:pt x="0" y="0"/>
                                </a:moveTo>
                                <a:lnTo>
                                  <a:pt x="12" y="21"/>
                                </a:lnTo>
                                <a:lnTo>
                                  <a:pt x="36" y="46"/>
                                </a:lnTo>
                              </a:path>
                            </a:pathLst>
                          </a:custGeom>
                          <a:noFill/>
                          <a:ln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080" bIns="10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33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48" name=""/>
                          <p:cNvSpPr/>
                          <p:nvPr/>
                        </p:nvSpPr>
                        <p:spPr>
                          <a:xfrm>
                            <a:off x="1214280" y="4028760"/>
                            <a:ext cx="26640" cy="37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9360" bIns="-9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33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</p:grpSp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1373400" y="3361320"/>
                      <a:ext cx="143280" cy="182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2" h="175">
                          <a:moveTo>
                            <a:pt x="44" y="0"/>
                          </a:moveTo>
                          <a:lnTo>
                            <a:pt x="9" y="26"/>
                          </a:lnTo>
                          <a:lnTo>
                            <a:pt x="0" y="56"/>
                          </a:lnTo>
                          <a:lnTo>
                            <a:pt x="36" y="83"/>
                          </a:lnTo>
                          <a:lnTo>
                            <a:pt x="43" y="104"/>
                          </a:lnTo>
                          <a:lnTo>
                            <a:pt x="30" y="152"/>
                          </a:lnTo>
                          <a:lnTo>
                            <a:pt x="37" y="171"/>
                          </a:lnTo>
                          <a:lnTo>
                            <a:pt x="79" y="175"/>
                          </a:lnTo>
                          <a:lnTo>
                            <a:pt x="102" y="63"/>
                          </a:lnTo>
                          <a:lnTo>
                            <a:pt x="68" y="23"/>
                          </a:lnTo>
                          <a:lnTo>
                            <a:pt x="57" y="11"/>
                          </a:lnTo>
                          <a:lnTo>
                            <a:pt x="44" y="0"/>
                          </a:lnTo>
                          <a:close/>
                        </a:path>
                      </a:pathLst>
                    </a:custGeom>
                    <a:solidFill>
                      <a:srgbClr val="ff001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50" name=""/>
                <p:cNvGrpSpPr/>
                <p:nvPr/>
              </p:nvGrpSpPr>
              <p:grpSpPr>
                <a:xfrm>
                  <a:off x="1686960" y="3998880"/>
                  <a:ext cx="43200" cy="117720"/>
                  <a:chOff x="1686960" y="3998880"/>
                  <a:chExt cx="43200" cy="117720"/>
                </a:xfrm>
              </p:grpSpPr>
              <p:sp>
                <p:nvSpPr>
                  <p:cNvPr id="251" name=""/>
                  <p:cNvSpPr/>
                  <p:nvPr/>
                </p:nvSpPr>
                <p:spPr>
                  <a:xfrm>
                    <a:off x="1688400" y="3998880"/>
                    <a:ext cx="41760" cy="47880"/>
                  </a:xfrm>
                  <a:prstGeom prst="ellipse">
                    <a:avLst/>
                  </a:prstGeom>
                  <a:solidFill>
                    <a:srgbClr val="ff9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1686960" y="4068720"/>
                    <a:ext cx="42120" cy="47880"/>
                  </a:xfrm>
                  <a:prstGeom prst="ellipse">
                    <a:avLst/>
                  </a:prstGeom>
                  <a:solidFill>
                    <a:srgbClr val="ff9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253" name=""/>
          <p:cNvGrpSpPr/>
          <p:nvPr/>
        </p:nvGrpSpPr>
        <p:grpSpPr>
          <a:xfrm>
            <a:off x="1967760" y="1227960"/>
            <a:ext cx="1216800" cy="2201760"/>
            <a:chOff x="1967760" y="1227960"/>
            <a:chExt cx="1216800" cy="2201760"/>
          </a:xfrm>
        </p:grpSpPr>
        <p:sp>
          <p:nvSpPr>
            <p:cNvPr id="254" name=""/>
            <p:cNvSpPr/>
            <p:nvPr/>
          </p:nvSpPr>
          <p:spPr>
            <a:xfrm rot="1475400">
              <a:off x="2001600" y="3176280"/>
              <a:ext cx="637920" cy="126000"/>
            </a:xfrm>
            <a:custGeom>
              <a:avLst/>
              <a:gdLst/>
              <a:ahLst/>
              <a:rect l="l" t="t" r="r" b="b"/>
              <a:pathLst>
                <a:path w="454" h="121">
                  <a:moveTo>
                    <a:pt x="271" y="0"/>
                  </a:moveTo>
                  <a:lnTo>
                    <a:pt x="230" y="4"/>
                  </a:lnTo>
                  <a:lnTo>
                    <a:pt x="186" y="9"/>
                  </a:lnTo>
                  <a:lnTo>
                    <a:pt x="156" y="15"/>
                  </a:lnTo>
                  <a:lnTo>
                    <a:pt x="135" y="12"/>
                  </a:lnTo>
                  <a:lnTo>
                    <a:pt x="102" y="13"/>
                  </a:lnTo>
                  <a:lnTo>
                    <a:pt x="57" y="18"/>
                  </a:lnTo>
                  <a:lnTo>
                    <a:pt x="29" y="25"/>
                  </a:lnTo>
                  <a:lnTo>
                    <a:pt x="11" y="34"/>
                  </a:lnTo>
                  <a:lnTo>
                    <a:pt x="3" y="42"/>
                  </a:lnTo>
                  <a:lnTo>
                    <a:pt x="0" y="55"/>
                  </a:lnTo>
                  <a:lnTo>
                    <a:pt x="6" y="64"/>
                  </a:lnTo>
                  <a:lnTo>
                    <a:pt x="17" y="72"/>
                  </a:lnTo>
                  <a:lnTo>
                    <a:pt x="32" y="79"/>
                  </a:lnTo>
                  <a:lnTo>
                    <a:pt x="53" y="86"/>
                  </a:lnTo>
                  <a:lnTo>
                    <a:pt x="77" y="91"/>
                  </a:lnTo>
                  <a:lnTo>
                    <a:pt x="141" y="97"/>
                  </a:lnTo>
                  <a:lnTo>
                    <a:pt x="311" y="111"/>
                  </a:lnTo>
                  <a:lnTo>
                    <a:pt x="454" y="121"/>
                  </a:lnTo>
                  <a:lnTo>
                    <a:pt x="271" y="0"/>
                  </a:lnTo>
                  <a:close/>
                </a:path>
              </a:pathLst>
            </a:custGeom>
            <a:solidFill>
              <a:srgbClr val="3f3f3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1967760" y="1227960"/>
              <a:ext cx="1216800" cy="1015200"/>
              <a:chOff x="1967760" y="1227960"/>
              <a:chExt cx="1216800" cy="1015200"/>
            </a:xfrm>
          </p:grpSpPr>
          <p:grpSp>
            <p:nvGrpSpPr>
              <p:cNvPr id="256" name=""/>
              <p:cNvGrpSpPr/>
              <p:nvPr/>
            </p:nvGrpSpPr>
            <p:grpSpPr>
              <a:xfrm>
                <a:off x="1967760" y="1227960"/>
                <a:ext cx="1216800" cy="1015200"/>
                <a:chOff x="1967760" y="1227960"/>
                <a:chExt cx="1216800" cy="1015200"/>
              </a:xfrm>
            </p:grpSpPr>
            <p:grpSp>
              <p:nvGrpSpPr>
                <p:cNvPr id="257" name=""/>
                <p:cNvGrpSpPr/>
                <p:nvPr/>
              </p:nvGrpSpPr>
              <p:grpSpPr>
                <a:xfrm>
                  <a:off x="2093760" y="1227960"/>
                  <a:ext cx="1090800" cy="1015200"/>
                  <a:chOff x="2093760" y="1227960"/>
                  <a:chExt cx="1090800" cy="1015200"/>
                </a:xfrm>
              </p:grpSpPr>
              <p:grpSp>
                <p:nvGrpSpPr>
                  <p:cNvPr id="258" name=""/>
                  <p:cNvGrpSpPr/>
                  <p:nvPr/>
                </p:nvGrpSpPr>
                <p:grpSpPr>
                  <a:xfrm>
                    <a:off x="2093760" y="1227960"/>
                    <a:ext cx="1090800" cy="1015200"/>
                    <a:chOff x="2093760" y="1227960"/>
                    <a:chExt cx="1090800" cy="1015200"/>
                  </a:xfrm>
                </p:grpSpPr>
                <p:sp>
                  <p:nvSpPr>
                    <p:cNvPr id="259" name=""/>
                    <p:cNvSpPr/>
                    <p:nvPr/>
                  </p:nvSpPr>
                  <p:spPr>
                    <a:xfrm rot="1475400">
                      <a:off x="2210760" y="1374480"/>
                      <a:ext cx="862560" cy="72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4" h="693">
                          <a:moveTo>
                            <a:pt x="490" y="60"/>
                          </a:moveTo>
                          <a:lnTo>
                            <a:pt x="544" y="0"/>
                          </a:lnTo>
                          <a:lnTo>
                            <a:pt x="560" y="1"/>
                          </a:lnTo>
                          <a:lnTo>
                            <a:pt x="574" y="4"/>
                          </a:lnTo>
                          <a:lnTo>
                            <a:pt x="587" y="10"/>
                          </a:lnTo>
                          <a:lnTo>
                            <a:pt x="597" y="17"/>
                          </a:lnTo>
                          <a:lnTo>
                            <a:pt x="605" y="25"/>
                          </a:lnTo>
                          <a:lnTo>
                            <a:pt x="611" y="37"/>
                          </a:lnTo>
                          <a:lnTo>
                            <a:pt x="614" y="53"/>
                          </a:lnTo>
                          <a:lnTo>
                            <a:pt x="613" y="68"/>
                          </a:lnTo>
                          <a:lnTo>
                            <a:pt x="44" y="693"/>
                          </a:lnTo>
                          <a:lnTo>
                            <a:pt x="0" y="645"/>
                          </a:lnTo>
                          <a:lnTo>
                            <a:pt x="490" y="60"/>
                          </a:lnTo>
                          <a:close/>
                        </a:path>
                      </a:pathLst>
                    </a:custGeom>
                    <a:solidFill>
                      <a:srgbClr val="7f3f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 rot="1475400">
                      <a:off x="2101320" y="1848240"/>
                      <a:ext cx="7020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51">
                          <a:moveTo>
                            <a:pt x="2" y="2"/>
                          </a:moveTo>
                          <a:lnTo>
                            <a:pt x="15" y="0"/>
                          </a:lnTo>
                          <a:lnTo>
                            <a:pt x="27" y="5"/>
                          </a:lnTo>
                          <a:lnTo>
                            <a:pt x="37" y="11"/>
                          </a:lnTo>
                          <a:lnTo>
                            <a:pt x="44" y="18"/>
                          </a:lnTo>
                          <a:lnTo>
                            <a:pt x="49" y="30"/>
                          </a:lnTo>
                          <a:lnTo>
                            <a:pt x="50" y="42"/>
                          </a:lnTo>
                          <a:lnTo>
                            <a:pt x="48" y="49"/>
                          </a:lnTo>
                          <a:lnTo>
                            <a:pt x="39" y="51"/>
                          </a:lnTo>
                          <a:lnTo>
                            <a:pt x="26" y="50"/>
                          </a:lnTo>
                          <a:lnTo>
                            <a:pt x="18" y="46"/>
                          </a:lnTo>
                          <a:lnTo>
                            <a:pt x="10" y="40"/>
                          </a:lnTo>
                          <a:lnTo>
                            <a:pt x="5" y="34"/>
                          </a:lnTo>
                          <a:lnTo>
                            <a:pt x="1" y="22"/>
                          </a:lnTo>
                          <a:lnTo>
                            <a:pt x="0" y="11"/>
                          </a:lnTo>
                          <a:lnTo>
                            <a:pt x="2" y="2"/>
                          </a:lnTo>
                          <a:close/>
                        </a:path>
                      </a:pathLst>
                    </a:custGeom>
                    <a:solidFill>
                      <a:srgbClr val="5f3f1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1" name=""/>
                  <p:cNvGrpSpPr/>
                  <p:nvPr/>
                </p:nvGrpSpPr>
                <p:grpSpPr>
                  <a:xfrm>
                    <a:off x="2351160" y="1561320"/>
                    <a:ext cx="811080" cy="261360"/>
                    <a:chOff x="2351160" y="1561320"/>
                    <a:chExt cx="811080" cy="261360"/>
                  </a:xfrm>
                </p:grpSpPr>
                <p:grpSp>
                  <p:nvGrpSpPr>
                    <p:cNvPr id="262" name=""/>
                    <p:cNvGrpSpPr/>
                    <p:nvPr/>
                  </p:nvGrpSpPr>
                  <p:grpSpPr>
                    <a:xfrm>
                      <a:off x="2988720" y="1561320"/>
                      <a:ext cx="173520" cy="80280"/>
                      <a:chOff x="2988720" y="1561320"/>
                      <a:chExt cx="173520" cy="80280"/>
                    </a:xfrm>
                  </p:grpSpPr>
                  <p:sp>
                    <p:nvSpPr>
                      <p:cNvPr id="263" name=""/>
                      <p:cNvSpPr/>
                      <p:nvPr/>
                    </p:nvSpPr>
                    <p:spPr>
                      <a:xfrm flipV="1">
                        <a:off x="2988720" y="1561320"/>
                        <a:ext cx="131400" cy="313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480" bIns="-15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4" name=""/>
                      <p:cNvSpPr/>
                      <p:nvPr/>
                    </p:nvSpPr>
                    <p:spPr>
                      <a:xfrm flipV="1">
                        <a:off x="3053160" y="1585080"/>
                        <a:ext cx="95040" cy="1476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040" bIns="-32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5" name=""/>
                      <p:cNvSpPr/>
                      <p:nvPr/>
                    </p:nvSpPr>
                    <p:spPr>
                      <a:xfrm flipV="1">
                        <a:off x="3028320" y="1606680"/>
                        <a:ext cx="133920" cy="205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6" name=""/>
                      <p:cNvSpPr/>
                      <p:nvPr/>
                    </p:nvSpPr>
                    <p:spPr>
                      <a:xfrm flipV="1">
                        <a:off x="3072960" y="1635120"/>
                        <a:ext cx="87840" cy="64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320" bIns="-40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33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67" name=""/>
                    <p:cNvGrpSpPr/>
                    <p:nvPr/>
                  </p:nvGrpSpPr>
                  <p:grpSpPr>
                    <a:xfrm>
                      <a:off x="2351160" y="1716840"/>
                      <a:ext cx="279360" cy="105840"/>
                      <a:chOff x="2351160" y="1716840"/>
                      <a:chExt cx="279360" cy="105840"/>
                    </a:xfrm>
                  </p:grpSpPr>
                  <p:sp>
                    <p:nvSpPr>
                      <p:cNvPr id="268" name=""/>
                      <p:cNvSpPr/>
                      <p:nvPr/>
                    </p:nvSpPr>
                    <p:spPr>
                      <a:xfrm flipV="1">
                        <a:off x="2351160" y="1749600"/>
                        <a:ext cx="100800" cy="284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360" bIns="-18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9" name=""/>
                      <p:cNvSpPr/>
                      <p:nvPr/>
                    </p:nvSpPr>
                    <p:spPr>
                      <a:xfrm flipV="1">
                        <a:off x="2384280" y="1792440"/>
                        <a:ext cx="56880" cy="136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120" bIns="-33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0" name=""/>
                      <p:cNvSpPr/>
                      <p:nvPr/>
                    </p:nvSpPr>
                    <p:spPr>
                      <a:xfrm flipV="1">
                        <a:off x="2396880" y="1767600"/>
                        <a:ext cx="212040" cy="550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280" bIns="8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1" name=""/>
                      <p:cNvSpPr/>
                      <p:nvPr/>
                    </p:nvSpPr>
                    <p:spPr>
                      <a:xfrm flipV="1">
                        <a:off x="2526120" y="1716840"/>
                        <a:ext cx="104400" cy="2196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840" bIns="-24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33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272" name=""/>
                <p:cNvSpPr/>
                <p:nvPr/>
              </p:nvSpPr>
              <p:spPr>
                <a:xfrm rot="1475400">
                  <a:off x="2016000" y="1663560"/>
                  <a:ext cx="525600" cy="347760"/>
                </a:xfrm>
                <a:custGeom>
                  <a:avLst/>
                  <a:gdLst/>
                  <a:ahLst/>
                  <a:rect l="l" t="t" r="r" b="b"/>
                  <a:pathLst>
                    <a:path w="374" h="334">
                      <a:moveTo>
                        <a:pt x="0" y="157"/>
                      </a:moveTo>
                      <a:lnTo>
                        <a:pt x="8" y="133"/>
                      </a:lnTo>
                      <a:lnTo>
                        <a:pt x="20" y="107"/>
                      </a:lnTo>
                      <a:lnTo>
                        <a:pt x="33" y="86"/>
                      </a:lnTo>
                      <a:lnTo>
                        <a:pt x="49" y="64"/>
                      </a:lnTo>
                      <a:lnTo>
                        <a:pt x="64" y="47"/>
                      </a:lnTo>
                      <a:lnTo>
                        <a:pt x="83" y="30"/>
                      </a:lnTo>
                      <a:lnTo>
                        <a:pt x="103" y="15"/>
                      </a:lnTo>
                      <a:lnTo>
                        <a:pt x="125" y="0"/>
                      </a:lnTo>
                      <a:lnTo>
                        <a:pt x="137" y="13"/>
                      </a:lnTo>
                      <a:lnTo>
                        <a:pt x="152" y="27"/>
                      </a:lnTo>
                      <a:lnTo>
                        <a:pt x="170" y="42"/>
                      </a:lnTo>
                      <a:lnTo>
                        <a:pt x="194" y="62"/>
                      </a:lnTo>
                      <a:lnTo>
                        <a:pt x="217" y="80"/>
                      </a:lnTo>
                      <a:lnTo>
                        <a:pt x="241" y="96"/>
                      </a:lnTo>
                      <a:lnTo>
                        <a:pt x="268" y="115"/>
                      </a:lnTo>
                      <a:lnTo>
                        <a:pt x="297" y="132"/>
                      </a:lnTo>
                      <a:lnTo>
                        <a:pt x="322" y="145"/>
                      </a:lnTo>
                      <a:lnTo>
                        <a:pt x="345" y="158"/>
                      </a:lnTo>
                      <a:lnTo>
                        <a:pt x="374" y="173"/>
                      </a:lnTo>
                      <a:lnTo>
                        <a:pt x="255" y="334"/>
                      </a:lnTo>
                      <a:lnTo>
                        <a:pt x="233" y="312"/>
                      </a:lnTo>
                      <a:lnTo>
                        <a:pt x="208" y="288"/>
                      </a:lnTo>
                      <a:lnTo>
                        <a:pt x="192" y="270"/>
                      </a:lnTo>
                      <a:lnTo>
                        <a:pt x="173" y="253"/>
                      </a:lnTo>
                      <a:lnTo>
                        <a:pt x="151" y="238"/>
                      </a:lnTo>
                      <a:lnTo>
                        <a:pt x="121" y="218"/>
                      </a:lnTo>
                      <a:lnTo>
                        <a:pt x="95" y="203"/>
                      </a:lnTo>
                      <a:lnTo>
                        <a:pt x="68" y="188"/>
                      </a:lnTo>
                      <a:lnTo>
                        <a:pt x="45" y="175"/>
                      </a:lnTo>
                      <a:lnTo>
                        <a:pt x="20" y="164"/>
                      </a:lnTo>
                      <a:lnTo>
                        <a:pt x="0" y="157"/>
                      </a:lnTo>
                      <a:close/>
                    </a:path>
                  </a:pathLst>
                </a:custGeom>
                <a:solidFill>
                  <a:srgbClr val="7f3f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3" name=""/>
              <p:cNvSpPr/>
              <p:nvPr/>
            </p:nvSpPr>
            <p:spPr>
              <a:xfrm rot="1475400">
                <a:off x="2319120" y="1910520"/>
                <a:ext cx="167040" cy="166320"/>
              </a:xfrm>
              <a:custGeom>
                <a:avLst/>
                <a:gdLst/>
                <a:ahLst/>
                <a:rect l="l" t="t" r="r" b="b"/>
                <a:pathLst>
                  <a:path w="119" h="160">
                    <a:moveTo>
                      <a:pt x="119" y="0"/>
                    </a:moveTo>
                    <a:lnTo>
                      <a:pt x="102" y="7"/>
                    </a:lnTo>
                    <a:lnTo>
                      <a:pt x="87" y="17"/>
                    </a:lnTo>
                    <a:lnTo>
                      <a:pt x="73" y="29"/>
                    </a:lnTo>
                    <a:lnTo>
                      <a:pt x="59" y="43"/>
                    </a:lnTo>
                    <a:lnTo>
                      <a:pt x="44" y="61"/>
                    </a:lnTo>
                    <a:lnTo>
                      <a:pt x="35" y="75"/>
                    </a:lnTo>
                    <a:lnTo>
                      <a:pt x="23" y="94"/>
                    </a:lnTo>
                    <a:lnTo>
                      <a:pt x="13" y="114"/>
                    </a:lnTo>
                    <a:lnTo>
                      <a:pt x="4" y="135"/>
                    </a:lnTo>
                    <a:lnTo>
                      <a:pt x="0" y="160"/>
                    </a:lnTo>
                    <a:lnTo>
                      <a:pt x="18" y="155"/>
                    </a:lnTo>
                    <a:lnTo>
                      <a:pt x="32" y="148"/>
                    </a:lnTo>
                    <a:lnTo>
                      <a:pt x="50" y="138"/>
                    </a:lnTo>
                    <a:lnTo>
                      <a:pt x="66" y="124"/>
                    </a:lnTo>
                    <a:lnTo>
                      <a:pt x="81" y="108"/>
                    </a:lnTo>
                    <a:lnTo>
                      <a:pt x="93" y="91"/>
                    </a:lnTo>
                    <a:lnTo>
                      <a:pt x="102" y="74"/>
                    </a:lnTo>
                    <a:lnTo>
                      <a:pt x="111" y="53"/>
                    </a:lnTo>
                    <a:lnTo>
                      <a:pt x="116" y="36"/>
                    </a:lnTo>
                    <a:lnTo>
                      <a:pt x="118" y="17"/>
                    </a:lnTo>
                    <a:lnTo>
                      <a:pt x="119" y="0"/>
                    </a:lnTo>
                    <a:close/>
                  </a:path>
                </a:pathLst>
              </a:custGeom>
              <a:solidFill>
                <a:srgbClr val="5f3f1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2053440" y="1379880"/>
            <a:ext cx="1818360" cy="2098080"/>
            <a:chOff x="2053440" y="1379880"/>
            <a:chExt cx="1818360" cy="2098080"/>
          </a:xfrm>
        </p:grpSpPr>
        <p:grpSp>
          <p:nvGrpSpPr>
            <p:cNvPr id="275" name=""/>
            <p:cNvGrpSpPr/>
            <p:nvPr/>
          </p:nvGrpSpPr>
          <p:grpSpPr>
            <a:xfrm>
              <a:off x="2053440" y="1379880"/>
              <a:ext cx="1818360" cy="2098080"/>
              <a:chOff x="2053440" y="1379880"/>
              <a:chExt cx="1818360" cy="2098080"/>
            </a:xfrm>
          </p:grpSpPr>
          <p:grpSp>
            <p:nvGrpSpPr>
              <p:cNvPr id="276" name=""/>
              <p:cNvGrpSpPr/>
              <p:nvPr/>
            </p:nvGrpSpPr>
            <p:grpSpPr>
              <a:xfrm>
                <a:off x="2053440" y="2598840"/>
                <a:ext cx="1055160" cy="879120"/>
                <a:chOff x="2053440" y="2598840"/>
                <a:chExt cx="1055160" cy="879120"/>
              </a:xfrm>
            </p:grpSpPr>
            <p:grpSp>
              <p:nvGrpSpPr>
                <p:cNvPr id="277" name=""/>
                <p:cNvGrpSpPr/>
                <p:nvPr/>
              </p:nvGrpSpPr>
              <p:grpSpPr>
                <a:xfrm>
                  <a:off x="2277000" y="2675520"/>
                  <a:ext cx="831600" cy="685080"/>
                  <a:chOff x="2277000" y="2675520"/>
                  <a:chExt cx="831600" cy="685080"/>
                </a:xfrm>
              </p:grpSpPr>
              <p:sp>
                <p:nvSpPr>
                  <p:cNvPr id="278" name=""/>
                  <p:cNvSpPr/>
                  <p:nvPr/>
                </p:nvSpPr>
                <p:spPr>
                  <a:xfrm rot="1475400">
                    <a:off x="2332440" y="2806200"/>
                    <a:ext cx="720720" cy="423720"/>
                  </a:xfrm>
                  <a:custGeom>
                    <a:avLst/>
                    <a:gdLst/>
                    <a:ahLst/>
                    <a:rect l="l" t="t" r="r" b="b"/>
                    <a:pathLst>
                      <a:path w="513" h="407">
                        <a:moveTo>
                          <a:pt x="136" y="0"/>
                        </a:moveTo>
                        <a:lnTo>
                          <a:pt x="180" y="10"/>
                        </a:lnTo>
                        <a:lnTo>
                          <a:pt x="144" y="91"/>
                        </a:lnTo>
                        <a:lnTo>
                          <a:pt x="111" y="158"/>
                        </a:lnTo>
                        <a:lnTo>
                          <a:pt x="90" y="207"/>
                        </a:lnTo>
                        <a:lnTo>
                          <a:pt x="84" y="228"/>
                        </a:lnTo>
                        <a:lnTo>
                          <a:pt x="85" y="245"/>
                        </a:lnTo>
                        <a:lnTo>
                          <a:pt x="93" y="257"/>
                        </a:lnTo>
                        <a:lnTo>
                          <a:pt x="109" y="269"/>
                        </a:lnTo>
                        <a:lnTo>
                          <a:pt x="131" y="282"/>
                        </a:lnTo>
                        <a:lnTo>
                          <a:pt x="154" y="290"/>
                        </a:lnTo>
                        <a:lnTo>
                          <a:pt x="186" y="300"/>
                        </a:lnTo>
                        <a:lnTo>
                          <a:pt x="216" y="305"/>
                        </a:lnTo>
                        <a:lnTo>
                          <a:pt x="253" y="308"/>
                        </a:lnTo>
                        <a:lnTo>
                          <a:pt x="287" y="305"/>
                        </a:lnTo>
                        <a:lnTo>
                          <a:pt x="321" y="300"/>
                        </a:lnTo>
                        <a:lnTo>
                          <a:pt x="358" y="292"/>
                        </a:lnTo>
                        <a:lnTo>
                          <a:pt x="371" y="295"/>
                        </a:lnTo>
                        <a:lnTo>
                          <a:pt x="376" y="298"/>
                        </a:lnTo>
                        <a:lnTo>
                          <a:pt x="378" y="305"/>
                        </a:lnTo>
                        <a:lnTo>
                          <a:pt x="373" y="319"/>
                        </a:lnTo>
                        <a:lnTo>
                          <a:pt x="368" y="327"/>
                        </a:lnTo>
                        <a:lnTo>
                          <a:pt x="375" y="330"/>
                        </a:lnTo>
                        <a:lnTo>
                          <a:pt x="426" y="321"/>
                        </a:lnTo>
                        <a:lnTo>
                          <a:pt x="438" y="324"/>
                        </a:lnTo>
                        <a:lnTo>
                          <a:pt x="445" y="329"/>
                        </a:lnTo>
                        <a:lnTo>
                          <a:pt x="448" y="337"/>
                        </a:lnTo>
                        <a:lnTo>
                          <a:pt x="443" y="344"/>
                        </a:lnTo>
                        <a:lnTo>
                          <a:pt x="434" y="350"/>
                        </a:lnTo>
                        <a:lnTo>
                          <a:pt x="423" y="357"/>
                        </a:lnTo>
                        <a:lnTo>
                          <a:pt x="431" y="362"/>
                        </a:lnTo>
                        <a:lnTo>
                          <a:pt x="453" y="360"/>
                        </a:lnTo>
                        <a:lnTo>
                          <a:pt x="471" y="362"/>
                        </a:lnTo>
                        <a:lnTo>
                          <a:pt x="489" y="368"/>
                        </a:lnTo>
                        <a:lnTo>
                          <a:pt x="509" y="377"/>
                        </a:lnTo>
                        <a:lnTo>
                          <a:pt x="513" y="384"/>
                        </a:lnTo>
                        <a:lnTo>
                          <a:pt x="512" y="393"/>
                        </a:lnTo>
                        <a:lnTo>
                          <a:pt x="503" y="399"/>
                        </a:lnTo>
                        <a:lnTo>
                          <a:pt x="485" y="402"/>
                        </a:lnTo>
                        <a:lnTo>
                          <a:pt x="455" y="404"/>
                        </a:lnTo>
                        <a:lnTo>
                          <a:pt x="422" y="402"/>
                        </a:lnTo>
                        <a:lnTo>
                          <a:pt x="385" y="405"/>
                        </a:lnTo>
                        <a:lnTo>
                          <a:pt x="360" y="407"/>
                        </a:lnTo>
                        <a:lnTo>
                          <a:pt x="313" y="404"/>
                        </a:lnTo>
                        <a:lnTo>
                          <a:pt x="289" y="399"/>
                        </a:lnTo>
                        <a:lnTo>
                          <a:pt x="254" y="393"/>
                        </a:lnTo>
                        <a:lnTo>
                          <a:pt x="196" y="391"/>
                        </a:lnTo>
                        <a:lnTo>
                          <a:pt x="0" y="333"/>
                        </a:lnTo>
                        <a:lnTo>
                          <a:pt x="24" y="194"/>
                        </a:lnTo>
                        <a:lnTo>
                          <a:pt x="136" y="0"/>
                        </a:lnTo>
                        <a:close/>
                      </a:path>
                    </a:pathLst>
                  </a:custGeom>
                  <a:solidFill>
                    <a:srgbClr val="ff9f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 rot="1475400">
                    <a:off x="2581920" y="3110760"/>
                    <a:ext cx="11520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82" h="22">
                        <a:moveTo>
                          <a:pt x="0" y="0"/>
                        </a:moveTo>
                        <a:lnTo>
                          <a:pt x="42" y="20"/>
                        </a:lnTo>
                        <a:lnTo>
                          <a:pt x="60" y="20"/>
                        </a:lnTo>
                        <a:lnTo>
                          <a:pt x="82" y="22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0" name=""/>
                <p:cNvGrpSpPr/>
                <p:nvPr/>
              </p:nvGrpSpPr>
              <p:grpSpPr>
                <a:xfrm>
                  <a:off x="2053440" y="2598840"/>
                  <a:ext cx="923040" cy="879120"/>
                  <a:chOff x="2053440" y="2598840"/>
                  <a:chExt cx="923040" cy="879120"/>
                </a:xfrm>
              </p:grpSpPr>
              <p:sp>
                <p:nvSpPr>
                  <p:cNvPr id="281" name=""/>
                  <p:cNvSpPr/>
                  <p:nvPr/>
                </p:nvSpPr>
                <p:spPr>
                  <a:xfrm rot="1475400">
                    <a:off x="2152440" y="2720520"/>
                    <a:ext cx="724680" cy="63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16" h="610">
                        <a:moveTo>
                          <a:pt x="186" y="0"/>
                        </a:moveTo>
                        <a:lnTo>
                          <a:pt x="269" y="16"/>
                        </a:lnTo>
                        <a:lnTo>
                          <a:pt x="265" y="35"/>
                        </a:lnTo>
                        <a:lnTo>
                          <a:pt x="256" y="57"/>
                        </a:lnTo>
                        <a:lnTo>
                          <a:pt x="247" y="76"/>
                        </a:lnTo>
                        <a:lnTo>
                          <a:pt x="234" y="98"/>
                        </a:lnTo>
                        <a:lnTo>
                          <a:pt x="220" y="118"/>
                        </a:lnTo>
                        <a:lnTo>
                          <a:pt x="206" y="136"/>
                        </a:lnTo>
                        <a:lnTo>
                          <a:pt x="197" y="161"/>
                        </a:lnTo>
                        <a:lnTo>
                          <a:pt x="181" y="196"/>
                        </a:lnTo>
                        <a:lnTo>
                          <a:pt x="165" y="228"/>
                        </a:lnTo>
                        <a:lnTo>
                          <a:pt x="159" y="239"/>
                        </a:lnTo>
                        <a:lnTo>
                          <a:pt x="155" y="252"/>
                        </a:lnTo>
                        <a:lnTo>
                          <a:pt x="152" y="268"/>
                        </a:lnTo>
                        <a:lnTo>
                          <a:pt x="149" y="286"/>
                        </a:lnTo>
                        <a:lnTo>
                          <a:pt x="146" y="304"/>
                        </a:lnTo>
                        <a:lnTo>
                          <a:pt x="147" y="320"/>
                        </a:lnTo>
                        <a:lnTo>
                          <a:pt x="152" y="333"/>
                        </a:lnTo>
                        <a:lnTo>
                          <a:pt x="162" y="344"/>
                        </a:lnTo>
                        <a:lnTo>
                          <a:pt x="184" y="349"/>
                        </a:lnTo>
                        <a:lnTo>
                          <a:pt x="206" y="357"/>
                        </a:lnTo>
                        <a:lnTo>
                          <a:pt x="229" y="366"/>
                        </a:lnTo>
                        <a:lnTo>
                          <a:pt x="256" y="377"/>
                        </a:lnTo>
                        <a:lnTo>
                          <a:pt x="272" y="379"/>
                        </a:lnTo>
                        <a:lnTo>
                          <a:pt x="289" y="383"/>
                        </a:lnTo>
                        <a:lnTo>
                          <a:pt x="305" y="389"/>
                        </a:lnTo>
                        <a:lnTo>
                          <a:pt x="321" y="396"/>
                        </a:lnTo>
                        <a:lnTo>
                          <a:pt x="334" y="405"/>
                        </a:lnTo>
                        <a:lnTo>
                          <a:pt x="347" y="416"/>
                        </a:lnTo>
                        <a:lnTo>
                          <a:pt x="356" y="413"/>
                        </a:lnTo>
                        <a:lnTo>
                          <a:pt x="367" y="412"/>
                        </a:lnTo>
                        <a:lnTo>
                          <a:pt x="374" y="415"/>
                        </a:lnTo>
                        <a:lnTo>
                          <a:pt x="378" y="419"/>
                        </a:lnTo>
                        <a:lnTo>
                          <a:pt x="384" y="428"/>
                        </a:lnTo>
                        <a:lnTo>
                          <a:pt x="404" y="429"/>
                        </a:lnTo>
                        <a:lnTo>
                          <a:pt x="432" y="432"/>
                        </a:lnTo>
                        <a:lnTo>
                          <a:pt x="463" y="436"/>
                        </a:lnTo>
                        <a:lnTo>
                          <a:pt x="490" y="438"/>
                        </a:lnTo>
                        <a:lnTo>
                          <a:pt x="507" y="441"/>
                        </a:lnTo>
                        <a:lnTo>
                          <a:pt x="514" y="445"/>
                        </a:lnTo>
                        <a:lnTo>
                          <a:pt x="516" y="451"/>
                        </a:lnTo>
                        <a:lnTo>
                          <a:pt x="514" y="456"/>
                        </a:lnTo>
                        <a:lnTo>
                          <a:pt x="505" y="462"/>
                        </a:lnTo>
                        <a:lnTo>
                          <a:pt x="490" y="468"/>
                        </a:lnTo>
                        <a:lnTo>
                          <a:pt x="470" y="475"/>
                        </a:lnTo>
                        <a:lnTo>
                          <a:pt x="452" y="478"/>
                        </a:lnTo>
                        <a:lnTo>
                          <a:pt x="435" y="479"/>
                        </a:lnTo>
                        <a:lnTo>
                          <a:pt x="421" y="480"/>
                        </a:lnTo>
                        <a:lnTo>
                          <a:pt x="443" y="492"/>
                        </a:lnTo>
                        <a:lnTo>
                          <a:pt x="459" y="501"/>
                        </a:lnTo>
                        <a:lnTo>
                          <a:pt x="470" y="509"/>
                        </a:lnTo>
                        <a:lnTo>
                          <a:pt x="476" y="518"/>
                        </a:lnTo>
                        <a:lnTo>
                          <a:pt x="475" y="528"/>
                        </a:lnTo>
                        <a:lnTo>
                          <a:pt x="470" y="533"/>
                        </a:lnTo>
                        <a:lnTo>
                          <a:pt x="462" y="536"/>
                        </a:lnTo>
                        <a:lnTo>
                          <a:pt x="448" y="537"/>
                        </a:lnTo>
                        <a:lnTo>
                          <a:pt x="429" y="535"/>
                        </a:lnTo>
                        <a:lnTo>
                          <a:pt x="410" y="532"/>
                        </a:lnTo>
                        <a:lnTo>
                          <a:pt x="400" y="531"/>
                        </a:lnTo>
                        <a:lnTo>
                          <a:pt x="393" y="533"/>
                        </a:lnTo>
                        <a:lnTo>
                          <a:pt x="389" y="538"/>
                        </a:lnTo>
                        <a:lnTo>
                          <a:pt x="391" y="544"/>
                        </a:lnTo>
                        <a:lnTo>
                          <a:pt x="397" y="550"/>
                        </a:lnTo>
                        <a:lnTo>
                          <a:pt x="405" y="559"/>
                        </a:lnTo>
                        <a:lnTo>
                          <a:pt x="421" y="576"/>
                        </a:lnTo>
                        <a:lnTo>
                          <a:pt x="430" y="589"/>
                        </a:lnTo>
                        <a:lnTo>
                          <a:pt x="430" y="598"/>
                        </a:lnTo>
                        <a:lnTo>
                          <a:pt x="426" y="606"/>
                        </a:lnTo>
                        <a:lnTo>
                          <a:pt x="419" y="609"/>
                        </a:lnTo>
                        <a:lnTo>
                          <a:pt x="409" y="610"/>
                        </a:lnTo>
                        <a:lnTo>
                          <a:pt x="388" y="605"/>
                        </a:lnTo>
                        <a:lnTo>
                          <a:pt x="367" y="601"/>
                        </a:lnTo>
                        <a:lnTo>
                          <a:pt x="348" y="598"/>
                        </a:lnTo>
                        <a:lnTo>
                          <a:pt x="314" y="587"/>
                        </a:lnTo>
                        <a:lnTo>
                          <a:pt x="287" y="573"/>
                        </a:lnTo>
                        <a:lnTo>
                          <a:pt x="255" y="555"/>
                        </a:lnTo>
                        <a:lnTo>
                          <a:pt x="232" y="540"/>
                        </a:lnTo>
                        <a:lnTo>
                          <a:pt x="207" y="524"/>
                        </a:lnTo>
                        <a:lnTo>
                          <a:pt x="181" y="505"/>
                        </a:lnTo>
                        <a:lnTo>
                          <a:pt x="156" y="486"/>
                        </a:lnTo>
                        <a:lnTo>
                          <a:pt x="125" y="465"/>
                        </a:lnTo>
                        <a:lnTo>
                          <a:pt x="99" y="450"/>
                        </a:lnTo>
                        <a:lnTo>
                          <a:pt x="66" y="432"/>
                        </a:lnTo>
                        <a:lnTo>
                          <a:pt x="40" y="416"/>
                        </a:lnTo>
                        <a:lnTo>
                          <a:pt x="25" y="405"/>
                        </a:lnTo>
                        <a:lnTo>
                          <a:pt x="11" y="394"/>
                        </a:lnTo>
                        <a:lnTo>
                          <a:pt x="1" y="379"/>
                        </a:lnTo>
                        <a:lnTo>
                          <a:pt x="0" y="365"/>
                        </a:lnTo>
                        <a:lnTo>
                          <a:pt x="4" y="352"/>
                        </a:lnTo>
                        <a:lnTo>
                          <a:pt x="14" y="341"/>
                        </a:lnTo>
                        <a:lnTo>
                          <a:pt x="32" y="328"/>
                        </a:lnTo>
                        <a:lnTo>
                          <a:pt x="66" y="280"/>
                        </a:lnTo>
                        <a:lnTo>
                          <a:pt x="90" y="246"/>
                        </a:lnTo>
                        <a:lnTo>
                          <a:pt x="102" y="220"/>
                        </a:lnTo>
                        <a:lnTo>
                          <a:pt x="167" y="49"/>
                        </a:lnTo>
                        <a:lnTo>
                          <a:pt x="186" y="0"/>
                        </a:lnTo>
                        <a:close/>
                      </a:path>
                    </a:pathLst>
                  </a:custGeom>
                  <a:solidFill>
                    <a:srgbClr val="ffbf1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82" name=""/>
                  <p:cNvGrpSpPr/>
                  <p:nvPr/>
                </p:nvGrpSpPr>
                <p:grpSpPr>
                  <a:xfrm>
                    <a:off x="2215080" y="2915280"/>
                    <a:ext cx="415440" cy="355320"/>
                    <a:chOff x="2215080" y="2915280"/>
                    <a:chExt cx="415440" cy="355320"/>
                  </a:xfrm>
                </p:grpSpPr>
                <p:sp>
                  <p:nvSpPr>
                    <p:cNvPr id="283" name=""/>
                    <p:cNvSpPr/>
                    <p:nvPr/>
                  </p:nvSpPr>
                  <p:spPr>
                    <a:xfrm rot="1475400">
                      <a:off x="2538000" y="3187800"/>
                      <a:ext cx="37800" cy="5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53">
                          <a:moveTo>
                            <a:pt x="22" y="0"/>
                          </a:moveTo>
                          <a:lnTo>
                            <a:pt x="25" y="7"/>
                          </a:lnTo>
                          <a:lnTo>
                            <a:pt x="27" y="15"/>
                          </a:lnTo>
                          <a:lnTo>
                            <a:pt x="26" y="24"/>
                          </a:lnTo>
                          <a:lnTo>
                            <a:pt x="22" y="36"/>
                          </a:lnTo>
                          <a:lnTo>
                            <a:pt x="18" y="42"/>
                          </a:lnTo>
                          <a:lnTo>
                            <a:pt x="10" y="48"/>
                          </a:lnTo>
                          <a:lnTo>
                            <a:pt x="0" y="53"/>
                          </a:lnTo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280" bIns="8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 rot="1475400">
                      <a:off x="2592360" y="3223440"/>
                      <a:ext cx="30600" cy="4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" h="41">
                          <a:moveTo>
                            <a:pt x="15" y="0"/>
                          </a:moveTo>
                          <a:lnTo>
                            <a:pt x="20" y="10"/>
                          </a:lnTo>
                          <a:lnTo>
                            <a:pt x="22" y="16"/>
                          </a:lnTo>
                          <a:lnTo>
                            <a:pt x="20" y="23"/>
                          </a:lnTo>
                          <a:lnTo>
                            <a:pt x="16" y="29"/>
                          </a:lnTo>
                          <a:lnTo>
                            <a:pt x="10" y="34"/>
                          </a:lnTo>
                          <a:lnTo>
                            <a:pt x="0" y="41"/>
                          </a:lnTo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" bIns="-4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 rot="1475400">
                      <a:off x="2234520" y="2921760"/>
                      <a:ext cx="54720" cy="10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9" h="101">
                          <a:moveTo>
                            <a:pt x="39" y="0"/>
                          </a:moveTo>
                          <a:lnTo>
                            <a:pt x="27" y="11"/>
                          </a:lnTo>
                          <a:lnTo>
                            <a:pt x="15" y="26"/>
                          </a:lnTo>
                          <a:lnTo>
                            <a:pt x="8" y="40"/>
                          </a:lnTo>
                          <a:lnTo>
                            <a:pt x="3" y="50"/>
                          </a:lnTo>
                          <a:lnTo>
                            <a:pt x="0" y="62"/>
                          </a:lnTo>
                          <a:lnTo>
                            <a:pt x="0" y="73"/>
                          </a:lnTo>
                          <a:lnTo>
                            <a:pt x="3" y="85"/>
                          </a:lnTo>
                          <a:lnTo>
                            <a:pt x="11" y="101"/>
                          </a:lnTo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86" name=""/>
              <p:cNvGrpSpPr/>
              <p:nvPr/>
            </p:nvGrpSpPr>
            <p:grpSpPr>
              <a:xfrm>
                <a:off x="2206440" y="1379880"/>
                <a:ext cx="1665360" cy="1566000"/>
                <a:chOff x="2206440" y="1379880"/>
                <a:chExt cx="1665360" cy="156600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2206440" y="1379880"/>
                  <a:ext cx="1665360" cy="1566000"/>
                  <a:chOff x="2206440" y="1379880"/>
                  <a:chExt cx="1665360" cy="1566000"/>
                </a:xfrm>
              </p:grpSpPr>
              <p:grpSp>
                <p:nvGrpSpPr>
                  <p:cNvPr id="288" name=""/>
                  <p:cNvGrpSpPr/>
                  <p:nvPr/>
                </p:nvGrpSpPr>
                <p:grpSpPr>
                  <a:xfrm>
                    <a:off x="2412720" y="1379880"/>
                    <a:ext cx="568080" cy="399960"/>
                    <a:chOff x="2412720" y="1379880"/>
                    <a:chExt cx="568080" cy="399960"/>
                  </a:xfrm>
                </p:grpSpPr>
                <p:grpSp>
                  <p:nvGrpSpPr>
                    <p:cNvPr id="289" name=""/>
                    <p:cNvGrpSpPr/>
                    <p:nvPr/>
                  </p:nvGrpSpPr>
                  <p:grpSpPr>
                    <a:xfrm>
                      <a:off x="2412720" y="1440000"/>
                      <a:ext cx="400680" cy="339840"/>
                      <a:chOff x="2412720" y="1440000"/>
                      <a:chExt cx="400680" cy="339840"/>
                    </a:xfrm>
                  </p:grpSpPr>
                  <p:sp>
                    <p:nvSpPr>
                      <p:cNvPr id="290" name=""/>
                      <p:cNvSpPr/>
                      <p:nvPr/>
                    </p:nvSpPr>
                    <p:spPr>
                      <a:xfrm rot="1475400">
                        <a:off x="2442240" y="1500840"/>
                        <a:ext cx="341280" cy="217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43" h="209">
                            <a:moveTo>
                              <a:pt x="140" y="0"/>
                            </a:moveTo>
                            <a:lnTo>
                              <a:pt x="92" y="8"/>
                            </a:lnTo>
                            <a:lnTo>
                              <a:pt x="83" y="12"/>
                            </a:lnTo>
                            <a:lnTo>
                              <a:pt x="93" y="42"/>
                            </a:lnTo>
                            <a:lnTo>
                              <a:pt x="78" y="42"/>
                            </a:lnTo>
                            <a:lnTo>
                              <a:pt x="72" y="45"/>
                            </a:lnTo>
                            <a:lnTo>
                              <a:pt x="66" y="87"/>
                            </a:lnTo>
                            <a:lnTo>
                              <a:pt x="56" y="84"/>
                            </a:lnTo>
                            <a:lnTo>
                              <a:pt x="31" y="96"/>
                            </a:lnTo>
                            <a:lnTo>
                              <a:pt x="5" y="117"/>
                            </a:lnTo>
                            <a:lnTo>
                              <a:pt x="0" y="138"/>
                            </a:lnTo>
                            <a:lnTo>
                              <a:pt x="6" y="158"/>
                            </a:lnTo>
                            <a:lnTo>
                              <a:pt x="17" y="170"/>
                            </a:lnTo>
                            <a:lnTo>
                              <a:pt x="26" y="177"/>
                            </a:lnTo>
                            <a:lnTo>
                              <a:pt x="41" y="173"/>
                            </a:lnTo>
                            <a:lnTo>
                              <a:pt x="59" y="171"/>
                            </a:lnTo>
                            <a:lnTo>
                              <a:pt x="75" y="174"/>
                            </a:lnTo>
                            <a:lnTo>
                              <a:pt x="92" y="179"/>
                            </a:lnTo>
                            <a:lnTo>
                              <a:pt x="110" y="189"/>
                            </a:lnTo>
                            <a:lnTo>
                              <a:pt x="131" y="209"/>
                            </a:lnTo>
                            <a:lnTo>
                              <a:pt x="188" y="207"/>
                            </a:lnTo>
                            <a:lnTo>
                              <a:pt x="243" y="189"/>
                            </a:lnTo>
                            <a:lnTo>
                              <a:pt x="158" y="0"/>
                            </a:lnTo>
                            <a:lnTo>
                              <a:pt x="140" y="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1" name=""/>
                      <p:cNvSpPr/>
                      <p:nvPr/>
                    </p:nvSpPr>
                    <p:spPr>
                      <a:xfrm>
                        <a:off x="2552040" y="1562040"/>
                        <a:ext cx="105480" cy="799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3120" bIns="33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2" name=""/>
                      <p:cNvSpPr/>
                      <p:nvPr/>
                    </p:nvSpPr>
                    <p:spPr>
                      <a:xfrm>
                        <a:off x="2602800" y="1532520"/>
                        <a:ext cx="83160" cy="500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240" bIns="3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33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93" name=""/>
                    <p:cNvSpPr/>
                    <p:nvPr/>
                  </p:nvSpPr>
                  <p:spPr>
                    <a:xfrm rot="1475400">
                      <a:off x="2610360" y="1608480"/>
                      <a:ext cx="132120" cy="14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" h="140">
                          <a:moveTo>
                            <a:pt x="0" y="12"/>
                          </a:moveTo>
                          <a:lnTo>
                            <a:pt x="49" y="0"/>
                          </a:lnTo>
                          <a:lnTo>
                            <a:pt x="94" y="125"/>
                          </a:lnTo>
                          <a:lnTo>
                            <a:pt x="39" y="140"/>
                          </a:lnTo>
                          <a:lnTo>
                            <a:pt x="0" y="12"/>
                          </a:lnTo>
                          <a:close/>
                        </a:path>
                      </a:pathLst>
                    </a:custGeom>
                    <a:solidFill>
                      <a:srgbClr val="dfdff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4" name=""/>
                    <p:cNvSpPr/>
                    <p:nvPr/>
                  </p:nvSpPr>
                  <p:spPr>
                    <a:xfrm rot="1475400">
                      <a:off x="2556000" y="1626120"/>
                      <a:ext cx="130320" cy="129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3" h="125">
                          <a:moveTo>
                            <a:pt x="59" y="0"/>
                          </a:moveTo>
                          <a:lnTo>
                            <a:pt x="30" y="1"/>
                          </a:lnTo>
                          <a:lnTo>
                            <a:pt x="12" y="25"/>
                          </a:lnTo>
                          <a:lnTo>
                            <a:pt x="9" y="37"/>
                          </a:lnTo>
                          <a:lnTo>
                            <a:pt x="12" y="49"/>
                          </a:lnTo>
                          <a:lnTo>
                            <a:pt x="27" y="67"/>
                          </a:lnTo>
                          <a:lnTo>
                            <a:pt x="9" y="85"/>
                          </a:lnTo>
                          <a:lnTo>
                            <a:pt x="0" y="99"/>
                          </a:lnTo>
                          <a:lnTo>
                            <a:pt x="5" y="113"/>
                          </a:lnTo>
                          <a:lnTo>
                            <a:pt x="14" y="125"/>
                          </a:lnTo>
                          <a:lnTo>
                            <a:pt x="41" y="123"/>
                          </a:lnTo>
                          <a:lnTo>
                            <a:pt x="71" y="114"/>
                          </a:lnTo>
                          <a:lnTo>
                            <a:pt x="83" y="99"/>
                          </a:lnTo>
                          <a:lnTo>
                            <a:pt x="93" y="25"/>
                          </a:lnTo>
                          <a:lnTo>
                            <a:pt x="71" y="16"/>
                          </a:lnTo>
                          <a:lnTo>
                            <a:pt x="59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5" name=""/>
                    <p:cNvSpPr/>
                    <p:nvPr/>
                  </p:nvSpPr>
                  <p:spPr>
                    <a:xfrm rot="1475400">
                      <a:off x="2642040" y="1431360"/>
                      <a:ext cx="301680" cy="24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5" h="234">
                          <a:moveTo>
                            <a:pt x="89" y="224"/>
                          </a:moveTo>
                          <a:lnTo>
                            <a:pt x="62" y="233"/>
                          </a:lnTo>
                          <a:lnTo>
                            <a:pt x="53" y="234"/>
                          </a:lnTo>
                          <a:lnTo>
                            <a:pt x="45" y="231"/>
                          </a:lnTo>
                          <a:lnTo>
                            <a:pt x="39" y="222"/>
                          </a:lnTo>
                          <a:lnTo>
                            <a:pt x="12" y="179"/>
                          </a:lnTo>
                          <a:lnTo>
                            <a:pt x="0" y="143"/>
                          </a:lnTo>
                          <a:lnTo>
                            <a:pt x="5" y="101"/>
                          </a:lnTo>
                          <a:lnTo>
                            <a:pt x="14" y="62"/>
                          </a:lnTo>
                          <a:lnTo>
                            <a:pt x="21" y="62"/>
                          </a:lnTo>
                          <a:lnTo>
                            <a:pt x="39" y="68"/>
                          </a:lnTo>
                          <a:lnTo>
                            <a:pt x="68" y="83"/>
                          </a:lnTo>
                          <a:lnTo>
                            <a:pt x="71" y="54"/>
                          </a:lnTo>
                          <a:lnTo>
                            <a:pt x="77" y="39"/>
                          </a:lnTo>
                          <a:lnTo>
                            <a:pt x="93" y="32"/>
                          </a:lnTo>
                          <a:lnTo>
                            <a:pt x="114" y="29"/>
                          </a:lnTo>
                          <a:lnTo>
                            <a:pt x="140" y="29"/>
                          </a:lnTo>
                          <a:lnTo>
                            <a:pt x="143" y="18"/>
                          </a:lnTo>
                          <a:lnTo>
                            <a:pt x="146" y="9"/>
                          </a:lnTo>
                          <a:lnTo>
                            <a:pt x="155" y="1"/>
                          </a:lnTo>
                          <a:lnTo>
                            <a:pt x="168" y="0"/>
                          </a:lnTo>
                          <a:lnTo>
                            <a:pt x="191" y="3"/>
                          </a:lnTo>
                          <a:lnTo>
                            <a:pt x="176" y="19"/>
                          </a:lnTo>
                          <a:lnTo>
                            <a:pt x="191" y="45"/>
                          </a:lnTo>
                          <a:lnTo>
                            <a:pt x="215" y="74"/>
                          </a:lnTo>
                          <a:lnTo>
                            <a:pt x="89" y="224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6" name=""/>
                  <p:cNvGrpSpPr/>
                  <p:nvPr/>
                </p:nvGrpSpPr>
                <p:grpSpPr>
                  <a:xfrm>
                    <a:off x="2851920" y="1416240"/>
                    <a:ext cx="1019880" cy="890640"/>
                    <a:chOff x="2851920" y="1416240"/>
                    <a:chExt cx="1019880" cy="890640"/>
                  </a:xfrm>
                </p:grpSpPr>
                <p:grpSp>
                  <p:nvGrpSpPr>
                    <p:cNvPr id="297" name=""/>
                    <p:cNvGrpSpPr/>
                    <p:nvPr/>
                  </p:nvGrpSpPr>
                  <p:grpSpPr>
                    <a:xfrm>
                      <a:off x="2851920" y="1416240"/>
                      <a:ext cx="783000" cy="789120"/>
                      <a:chOff x="2851920" y="1416240"/>
                      <a:chExt cx="783000" cy="789120"/>
                    </a:xfrm>
                  </p:grpSpPr>
                  <p:sp>
                    <p:nvSpPr>
                      <p:cNvPr id="298" name=""/>
                      <p:cNvSpPr/>
                      <p:nvPr/>
                    </p:nvSpPr>
                    <p:spPr>
                      <a:xfrm rot="1475400">
                        <a:off x="2949480" y="1510920"/>
                        <a:ext cx="587160" cy="599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8" h="575">
                            <a:moveTo>
                              <a:pt x="17" y="192"/>
                            </a:moveTo>
                            <a:lnTo>
                              <a:pt x="40" y="148"/>
                            </a:lnTo>
                            <a:lnTo>
                              <a:pt x="71" y="103"/>
                            </a:lnTo>
                            <a:lnTo>
                              <a:pt x="101" y="60"/>
                            </a:lnTo>
                            <a:lnTo>
                              <a:pt x="167" y="24"/>
                            </a:lnTo>
                            <a:lnTo>
                              <a:pt x="159" y="64"/>
                            </a:lnTo>
                            <a:lnTo>
                              <a:pt x="225" y="0"/>
                            </a:lnTo>
                            <a:lnTo>
                              <a:pt x="216" y="21"/>
                            </a:lnTo>
                            <a:lnTo>
                              <a:pt x="210" y="48"/>
                            </a:lnTo>
                            <a:lnTo>
                              <a:pt x="263" y="0"/>
                            </a:lnTo>
                            <a:lnTo>
                              <a:pt x="218" y="66"/>
                            </a:lnTo>
                            <a:lnTo>
                              <a:pt x="212" y="91"/>
                            </a:lnTo>
                            <a:lnTo>
                              <a:pt x="237" y="60"/>
                            </a:lnTo>
                            <a:lnTo>
                              <a:pt x="285" y="39"/>
                            </a:lnTo>
                            <a:lnTo>
                              <a:pt x="332" y="37"/>
                            </a:lnTo>
                            <a:lnTo>
                              <a:pt x="284" y="66"/>
                            </a:lnTo>
                            <a:lnTo>
                              <a:pt x="266" y="102"/>
                            </a:lnTo>
                            <a:lnTo>
                              <a:pt x="269" y="122"/>
                            </a:lnTo>
                            <a:lnTo>
                              <a:pt x="284" y="123"/>
                            </a:lnTo>
                            <a:lnTo>
                              <a:pt x="308" y="135"/>
                            </a:lnTo>
                            <a:lnTo>
                              <a:pt x="342" y="161"/>
                            </a:lnTo>
                            <a:lnTo>
                              <a:pt x="335" y="173"/>
                            </a:lnTo>
                            <a:lnTo>
                              <a:pt x="333" y="183"/>
                            </a:lnTo>
                            <a:lnTo>
                              <a:pt x="338" y="198"/>
                            </a:lnTo>
                            <a:lnTo>
                              <a:pt x="347" y="210"/>
                            </a:lnTo>
                            <a:lnTo>
                              <a:pt x="362" y="222"/>
                            </a:lnTo>
                            <a:lnTo>
                              <a:pt x="382" y="231"/>
                            </a:lnTo>
                            <a:lnTo>
                              <a:pt x="401" y="237"/>
                            </a:lnTo>
                            <a:lnTo>
                              <a:pt x="418" y="240"/>
                            </a:lnTo>
                            <a:lnTo>
                              <a:pt x="395" y="267"/>
                            </a:lnTo>
                            <a:lnTo>
                              <a:pt x="379" y="294"/>
                            </a:lnTo>
                            <a:lnTo>
                              <a:pt x="362" y="324"/>
                            </a:lnTo>
                            <a:lnTo>
                              <a:pt x="347" y="355"/>
                            </a:lnTo>
                            <a:lnTo>
                              <a:pt x="333" y="388"/>
                            </a:lnTo>
                            <a:lnTo>
                              <a:pt x="306" y="404"/>
                            </a:lnTo>
                            <a:lnTo>
                              <a:pt x="265" y="407"/>
                            </a:lnTo>
                            <a:lnTo>
                              <a:pt x="237" y="398"/>
                            </a:lnTo>
                            <a:lnTo>
                              <a:pt x="219" y="392"/>
                            </a:lnTo>
                            <a:lnTo>
                              <a:pt x="202" y="402"/>
                            </a:lnTo>
                            <a:lnTo>
                              <a:pt x="207" y="436"/>
                            </a:lnTo>
                            <a:lnTo>
                              <a:pt x="224" y="474"/>
                            </a:lnTo>
                            <a:lnTo>
                              <a:pt x="234" y="499"/>
                            </a:lnTo>
                            <a:lnTo>
                              <a:pt x="234" y="520"/>
                            </a:lnTo>
                            <a:lnTo>
                              <a:pt x="216" y="575"/>
                            </a:lnTo>
                            <a:lnTo>
                              <a:pt x="12" y="553"/>
                            </a:lnTo>
                            <a:lnTo>
                              <a:pt x="3" y="383"/>
                            </a:lnTo>
                            <a:lnTo>
                              <a:pt x="0" y="284"/>
                            </a:lnTo>
                            <a:lnTo>
                              <a:pt x="6" y="228"/>
                            </a:lnTo>
                            <a:lnTo>
                              <a:pt x="17" y="192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9" name=""/>
                      <p:cNvSpPr/>
                      <p:nvPr/>
                    </p:nvSpPr>
                    <p:spPr>
                      <a:xfrm rot="1475400">
                        <a:off x="3368880" y="1739520"/>
                        <a:ext cx="9252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6" h="17">
                            <a:moveTo>
                              <a:pt x="66" y="17"/>
                            </a:moveTo>
                            <a:lnTo>
                              <a:pt x="54" y="11"/>
                            </a:lnTo>
                            <a:lnTo>
                              <a:pt x="39" y="5"/>
                            </a:lnTo>
                            <a:lnTo>
                              <a:pt x="27" y="0"/>
                            </a:lnTo>
                            <a:lnTo>
                              <a:pt x="13" y="3"/>
                            </a:lnTo>
                            <a:lnTo>
                              <a:pt x="0" y="12"/>
                            </a:lnTo>
                          </a:path>
                        </a:pathLst>
                      </a:custGeom>
                      <a:noFill/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33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00" name=""/>
                    <p:cNvGrpSpPr/>
                    <p:nvPr/>
                  </p:nvGrpSpPr>
                  <p:grpSpPr>
                    <a:xfrm>
                      <a:off x="3110040" y="1747800"/>
                      <a:ext cx="761760" cy="559080"/>
                      <a:chOff x="3110040" y="1747800"/>
                      <a:chExt cx="761760" cy="559080"/>
                    </a:xfrm>
                  </p:grpSpPr>
                  <p:sp>
                    <p:nvSpPr>
                      <p:cNvPr id="301" name=""/>
                      <p:cNvSpPr/>
                      <p:nvPr/>
                    </p:nvSpPr>
                    <p:spPr>
                      <a:xfrm rot="1475400">
                        <a:off x="3138840" y="1880640"/>
                        <a:ext cx="703800" cy="292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01" h="281">
                            <a:moveTo>
                              <a:pt x="0" y="164"/>
                            </a:moveTo>
                            <a:lnTo>
                              <a:pt x="49" y="132"/>
                            </a:lnTo>
                            <a:lnTo>
                              <a:pt x="115" y="153"/>
                            </a:lnTo>
                            <a:lnTo>
                              <a:pt x="154" y="128"/>
                            </a:lnTo>
                            <a:lnTo>
                              <a:pt x="183" y="77"/>
                            </a:lnTo>
                            <a:lnTo>
                              <a:pt x="215" y="30"/>
                            </a:lnTo>
                            <a:lnTo>
                              <a:pt x="230" y="0"/>
                            </a:lnTo>
                            <a:lnTo>
                              <a:pt x="263" y="3"/>
                            </a:lnTo>
                            <a:lnTo>
                              <a:pt x="285" y="11"/>
                            </a:lnTo>
                            <a:lnTo>
                              <a:pt x="303" y="33"/>
                            </a:lnTo>
                            <a:lnTo>
                              <a:pt x="326" y="63"/>
                            </a:lnTo>
                            <a:lnTo>
                              <a:pt x="350" y="90"/>
                            </a:lnTo>
                            <a:lnTo>
                              <a:pt x="384" y="117"/>
                            </a:lnTo>
                            <a:lnTo>
                              <a:pt x="419" y="141"/>
                            </a:lnTo>
                            <a:lnTo>
                              <a:pt x="446" y="159"/>
                            </a:lnTo>
                            <a:lnTo>
                              <a:pt x="465" y="168"/>
                            </a:lnTo>
                            <a:lnTo>
                              <a:pt x="482" y="172"/>
                            </a:lnTo>
                            <a:lnTo>
                              <a:pt x="501" y="168"/>
                            </a:lnTo>
                            <a:lnTo>
                              <a:pt x="500" y="191"/>
                            </a:lnTo>
                            <a:lnTo>
                              <a:pt x="494" y="215"/>
                            </a:lnTo>
                            <a:lnTo>
                              <a:pt x="476" y="243"/>
                            </a:lnTo>
                            <a:lnTo>
                              <a:pt x="458" y="265"/>
                            </a:lnTo>
                            <a:lnTo>
                              <a:pt x="440" y="275"/>
                            </a:lnTo>
                            <a:lnTo>
                              <a:pt x="419" y="266"/>
                            </a:lnTo>
                            <a:lnTo>
                              <a:pt x="396" y="253"/>
                            </a:lnTo>
                            <a:lnTo>
                              <a:pt x="371" y="242"/>
                            </a:lnTo>
                            <a:lnTo>
                              <a:pt x="342" y="233"/>
                            </a:lnTo>
                            <a:lnTo>
                              <a:pt x="320" y="248"/>
                            </a:lnTo>
                            <a:lnTo>
                              <a:pt x="290" y="266"/>
                            </a:lnTo>
                            <a:lnTo>
                              <a:pt x="269" y="250"/>
                            </a:lnTo>
                            <a:lnTo>
                              <a:pt x="234" y="228"/>
                            </a:lnTo>
                            <a:lnTo>
                              <a:pt x="212" y="240"/>
                            </a:lnTo>
                            <a:lnTo>
                              <a:pt x="181" y="254"/>
                            </a:lnTo>
                            <a:lnTo>
                              <a:pt x="141" y="263"/>
                            </a:lnTo>
                            <a:lnTo>
                              <a:pt x="88" y="275"/>
                            </a:lnTo>
                            <a:lnTo>
                              <a:pt x="48" y="281"/>
                            </a:lnTo>
                            <a:lnTo>
                              <a:pt x="28" y="253"/>
                            </a:lnTo>
                            <a:lnTo>
                              <a:pt x="21" y="236"/>
                            </a:lnTo>
                            <a:lnTo>
                              <a:pt x="7" y="197"/>
                            </a:lnTo>
                            <a:lnTo>
                              <a:pt x="0" y="164"/>
                            </a:lnTo>
                            <a:close/>
                          </a:path>
                        </a:pathLst>
                      </a:custGeom>
                      <a:solidFill>
                        <a:srgbClr val="ff5f0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33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302" name=""/>
                      <p:cNvGrpSpPr/>
                      <p:nvPr/>
                    </p:nvGrpSpPr>
                    <p:grpSpPr>
                      <a:xfrm>
                        <a:off x="3208680" y="1971360"/>
                        <a:ext cx="546480" cy="214560"/>
                        <a:chOff x="3208680" y="1971360"/>
                        <a:chExt cx="546480" cy="214560"/>
                      </a:xfrm>
                    </p:grpSpPr>
                    <p:sp>
                      <p:nvSpPr>
                        <p:cNvPr id="303" name=""/>
                        <p:cNvSpPr/>
                        <p:nvPr/>
                      </p:nvSpPr>
                      <p:spPr>
                        <a:xfrm rot="1475400">
                          <a:off x="3523320" y="2011680"/>
                          <a:ext cx="57240" cy="30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1" h="30">
                              <a:moveTo>
                                <a:pt x="8" y="0"/>
                              </a:moveTo>
                              <a:lnTo>
                                <a:pt x="41" y="19"/>
                              </a:lnTo>
                              <a:lnTo>
                                <a:pt x="0" y="30"/>
                              </a:lnTo>
                            </a:path>
                          </a:pathLst>
                        </a:custGeom>
                        <a:noFill/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840" bIns="-158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33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4" name=""/>
                        <p:cNvSpPr/>
                        <p:nvPr/>
                      </p:nvSpPr>
                      <p:spPr>
                        <a:xfrm flipH="1">
                          <a:off x="3696480" y="2185200"/>
                          <a:ext cx="58680" cy="7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080" bIns="-46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33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5" name=""/>
                        <p:cNvSpPr/>
                        <p:nvPr/>
                      </p:nvSpPr>
                      <p:spPr>
                        <a:xfrm rot="1475400">
                          <a:off x="3215160" y="1983600"/>
                          <a:ext cx="70200" cy="46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45">
                              <a:moveTo>
                                <a:pt x="50" y="0"/>
                              </a:moveTo>
                              <a:lnTo>
                                <a:pt x="27" y="10"/>
                              </a:lnTo>
                              <a:lnTo>
                                <a:pt x="15" y="21"/>
                              </a:lnTo>
                              <a:lnTo>
                                <a:pt x="8" y="31"/>
                              </a:lnTo>
                              <a:lnTo>
                                <a:pt x="0" y="45"/>
                              </a:lnTo>
                            </a:path>
                          </a:pathLst>
                        </a:custGeom>
                        <a:noFill/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0" bIns="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33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6" name=""/>
                        <p:cNvSpPr/>
                        <p:nvPr/>
                      </p:nvSpPr>
                      <p:spPr>
                        <a:xfrm rot="1475400">
                          <a:off x="3223080" y="2055240"/>
                          <a:ext cx="369360" cy="35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63" h="34">
                              <a:moveTo>
                                <a:pt x="0" y="25"/>
                              </a:moveTo>
                              <a:lnTo>
                                <a:pt x="33" y="16"/>
                              </a:lnTo>
                              <a:lnTo>
                                <a:pt x="72" y="9"/>
                              </a:lnTo>
                              <a:lnTo>
                                <a:pt x="105" y="2"/>
                              </a:lnTo>
                              <a:lnTo>
                                <a:pt x="134" y="0"/>
                              </a:lnTo>
                              <a:lnTo>
                                <a:pt x="164" y="3"/>
                              </a:lnTo>
                              <a:lnTo>
                                <a:pt x="194" y="9"/>
                              </a:lnTo>
                              <a:lnTo>
                                <a:pt x="226" y="18"/>
                              </a:lnTo>
                              <a:lnTo>
                                <a:pt x="263" y="34"/>
                              </a:lnTo>
                            </a:path>
                          </a:pathLst>
                        </a:custGeom>
                        <a:noFill/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520" bIns="-11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33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307" name=""/>
                  <p:cNvGrpSpPr/>
                  <p:nvPr/>
                </p:nvGrpSpPr>
                <p:grpSpPr>
                  <a:xfrm>
                    <a:off x="2206440" y="2112480"/>
                    <a:ext cx="940680" cy="833400"/>
                    <a:chOff x="2206440" y="2112480"/>
                    <a:chExt cx="940680" cy="833400"/>
                  </a:xfrm>
                </p:grpSpPr>
                <p:sp>
                  <p:nvSpPr>
                    <p:cNvPr id="308" name=""/>
                    <p:cNvSpPr/>
                    <p:nvPr/>
                  </p:nvSpPr>
                  <p:spPr>
                    <a:xfrm rot="1475400">
                      <a:off x="2642040" y="2646720"/>
                      <a:ext cx="230040" cy="200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4" h="193">
                          <a:moveTo>
                            <a:pt x="110" y="0"/>
                          </a:moveTo>
                          <a:lnTo>
                            <a:pt x="164" y="0"/>
                          </a:lnTo>
                          <a:lnTo>
                            <a:pt x="159" y="28"/>
                          </a:lnTo>
                          <a:lnTo>
                            <a:pt x="153" y="58"/>
                          </a:lnTo>
                          <a:lnTo>
                            <a:pt x="141" y="85"/>
                          </a:lnTo>
                          <a:lnTo>
                            <a:pt x="125" y="108"/>
                          </a:lnTo>
                          <a:lnTo>
                            <a:pt x="102" y="132"/>
                          </a:lnTo>
                          <a:lnTo>
                            <a:pt x="80" y="151"/>
                          </a:lnTo>
                          <a:lnTo>
                            <a:pt x="56" y="177"/>
                          </a:lnTo>
                          <a:lnTo>
                            <a:pt x="44" y="189"/>
                          </a:lnTo>
                          <a:lnTo>
                            <a:pt x="35" y="192"/>
                          </a:lnTo>
                          <a:lnTo>
                            <a:pt x="21" y="193"/>
                          </a:lnTo>
                          <a:lnTo>
                            <a:pt x="0" y="177"/>
                          </a:lnTo>
                          <a:lnTo>
                            <a:pt x="110" y="0"/>
                          </a:lnTo>
                          <a:close/>
                        </a:path>
                      </a:pathLst>
                    </a:custGeom>
                    <a:solidFill>
                      <a:srgbClr val="dfdff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9" name=""/>
                    <p:cNvSpPr/>
                    <p:nvPr/>
                  </p:nvSpPr>
                  <p:spPr>
                    <a:xfrm rot="1475400">
                      <a:off x="2287440" y="2248920"/>
                      <a:ext cx="778320" cy="560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54" h="538">
                          <a:moveTo>
                            <a:pt x="212" y="397"/>
                          </a:moveTo>
                          <a:lnTo>
                            <a:pt x="209" y="428"/>
                          </a:lnTo>
                          <a:lnTo>
                            <a:pt x="211" y="461"/>
                          </a:lnTo>
                          <a:lnTo>
                            <a:pt x="218" y="494"/>
                          </a:lnTo>
                          <a:lnTo>
                            <a:pt x="224" y="512"/>
                          </a:lnTo>
                          <a:lnTo>
                            <a:pt x="235" y="525"/>
                          </a:lnTo>
                          <a:lnTo>
                            <a:pt x="249" y="524"/>
                          </a:lnTo>
                          <a:lnTo>
                            <a:pt x="266" y="520"/>
                          </a:lnTo>
                          <a:lnTo>
                            <a:pt x="275" y="530"/>
                          </a:lnTo>
                          <a:lnTo>
                            <a:pt x="286" y="536"/>
                          </a:lnTo>
                          <a:lnTo>
                            <a:pt x="299" y="538"/>
                          </a:lnTo>
                          <a:lnTo>
                            <a:pt x="312" y="535"/>
                          </a:lnTo>
                          <a:lnTo>
                            <a:pt x="326" y="524"/>
                          </a:lnTo>
                          <a:lnTo>
                            <a:pt x="339" y="509"/>
                          </a:lnTo>
                          <a:lnTo>
                            <a:pt x="355" y="491"/>
                          </a:lnTo>
                          <a:lnTo>
                            <a:pt x="372" y="472"/>
                          </a:lnTo>
                          <a:lnTo>
                            <a:pt x="388" y="453"/>
                          </a:lnTo>
                          <a:lnTo>
                            <a:pt x="407" y="431"/>
                          </a:lnTo>
                          <a:lnTo>
                            <a:pt x="432" y="394"/>
                          </a:lnTo>
                          <a:lnTo>
                            <a:pt x="455" y="365"/>
                          </a:lnTo>
                          <a:lnTo>
                            <a:pt x="483" y="340"/>
                          </a:lnTo>
                          <a:lnTo>
                            <a:pt x="503" y="325"/>
                          </a:lnTo>
                          <a:lnTo>
                            <a:pt x="522" y="303"/>
                          </a:lnTo>
                          <a:lnTo>
                            <a:pt x="540" y="275"/>
                          </a:lnTo>
                          <a:lnTo>
                            <a:pt x="549" y="247"/>
                          </a:lnTo>
                          <a:lnTo>
                            <a:pt x="554" y="213"/>
                          </a:lnTo>
                          <a:lnTo>
                            <a:pt x="543" y="168"/>
                          </a:lnTo>
                          <a:lnTo>
                            <a:pt x="127" y="50"/>
                          </a:lnTo>
                          <a:lnTo>
                            <a:pt x="105" y="47"/>
                          </a:lnTo>
                          <a:lnTo>
                            <a:pt x="79" y="24"/>
                          </a:lnTo>
                          <a:lnTo>
                            <a:pt x="46" y="0"/>
                          </a:lnTo>
                          <a:lnTo>
                            <a:pt x="0" y="33"/>
                          </a:lnTo>
                          <a:lnTo>
                            <a:pt x="13" y="53"/>
                          </a:lnTo>
                          <a:lnTo>
                            <a:pt x="36" y="75"/>
                          </a:lnTo>
                          <a:lnTo>
                            <a:pt x="16" y="87"/>
                          </a:lnTo>
                          <a:lnTo>
                            <a:pt x="1" y="104"/>
                          </a:lnTo>
                          <a:lnTo>
                            <a:pt x="22" y="116"/>
                          </a:lnTo>
                          <a:lnTo>
                            <a:pt x="36" y="130"/>
                          </a:lnTo>
                          <a:lnTo>
                            <a:pt x="45" y="152"/>
                          </a:lnTo>
                          <a:lnTo>
                            <a:pt x="48" y="170"/>
                          </a:lnTo>
                          <a:lnTo>
                            <a:pt x="13" y="164"/>
                          </a:lnTo>
                          <a:lnTo>
                            <a:pt x="10" y="183"/>
                          </a:lnTo>
                          <a:lnTo>
                            <a:pt x="16" y="209"/>
                          </a:lnTo>
                          <a:lnTo>
                            <a:pt x="34" y="235"/>
                          </a:lnTo>
                          <a:lnTo>
                            <a:pt x="53" y="253"/>
                          </a:lnTo>
                          <a:lnTo>
                            <a:pt x="81" y="267"/>
                          </a:lnTo>
                          <a:lnTo>
                            <a:pt x="108" y="274"/>
                          </a:lnTo>
                          <a:lnTo>
                            <a:pt x="112" y="301"/>
                          </a:lnTo>
                          <a:lnTo>
                            <a:pt x="129" y="325"/>
                          </a:lnTo>
                          <a:lnTo>
                            <a:pt x="151" y="352"/>
                          </a:lnTo>
                          <a:lnTo>
                            <a:pt x="179" y="377"/>
                          </a:lnTo>
                          <a:lnTo>
                            <a:pt x="212" y="397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10" name=""/>
                <p:cNvGrpSpPr/>
                <p:nvPr/>
              </p:nvGrpSpPr>
              <p:grpSpPr>
                <a:xfrm>
                  <a:off x="3053520" y="1656360"/>
                  <a:ext cx="568800" cy="363240"/>
                  <a:chOff x="3053520" y="1656360"/>
                  <a:chExt cx="568800" cy="363240"/>
                </a:xfrm>
              </p:grpSpPr>
              <p:sp>
                <p:nvSpPr>
                  <p:cNvPr id="311" name=""/>
                  <p:cNvSpPr/>
                  <p:nvPr/>
                </p:nvSpPr>
                <p:spPr>
                  <a:xfrm rot="1475400">
                    <a:off x="3050640" y="1739520"/>
                    <a:ext cx="417240" cy="76680"/>
                  </a:xfrm>
                  <a:custGeom>
                    <a:avLst/>
                    <a:gdLst/>
                    <a:ahLst/>
                    <a:rect l="l" t="t" r="r" b="b"/>
                    <a:pathLst>
                      <a:path w="297" h="74">
                        <a:moveTo>
                          <a:pt x="0" y="53"/>
                        </a:moveTo>
                        <a:lnTo>
                          <a:pt x="21" y="26"/>
                        </a:lnTo>
                        <a:lnTo>
                          <a:pt x="48" y="4"/>
                        </a:lnTo>
                        <a:lnTo>
                          <a:pt x="70" y="0"/>
                        </a:lnTo>
                        <a:lnTo>
                          <a:pt x="297" y="29"/>
                        </a:lnTo>
                        <a:lnTo>
                          <a:pt x="291" y="59"/>
                        </a:lnTo>
                        <a:lnTo>
                          <a:pt x="246" y="57"/>
                        </a:lnTo>
                        <a:lnTo>
                          <a:pt x="143" y="53"/>
                        </a:lnTo>
                        <a:lnTo>
                          <a:pt x="76" y="50"/>
                        </a:lnTo>
                        <a:lnTo>
                          <a:pt x="63" y="54"/>
                        </a:lnTo>
                        <a:lnTo>
                          <a:pt x="45" y="74"/>
                        </a:lnTo>
                        <a:lnTo>
                          <a:pt x="0" y="53"/>
                        </a:lnTo>
                        <a:close/>
                      </a:path>
                    </a:pathLst>
                  </a:custGeom>
                  <a:solidFill>
                    <a:srgbClr val="bf7f3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 rot="1475400">
                    <a:off x="3539880" y="1815120"/>
                    <a:ext cx="6156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110">
                        <a:moveTo>
                          <a:pt x="14" y="0"/>
                        </a:moveTo>
                        <a:lnTo>
                          <a:pt x="29" y="15"/>
                        </a:lnTo>
                        <a:lnTo>
                          <a:pt x="36" y="29"/>
                        </a:lnTo>
                        <a:lnTo>
                          <a:pt x="41" y="47"/>
                        </a:lnTo>
                        <a:lnTo>
                          <a:pt x="44" y="64"/>
                        </a:lnTo>
                        <a:lnTo>
                          <a:pt x="39" y="80"/>
                        </a:lnTo>
                        <a:lnTo>
                          <a:pt x="30" y="94"/>
                        </a:lnTo>
                        <a:lnTo>
                          <a:pt x="16" y="104"/>
                        </a:lnTo>
                        <a:lnTo>
                          <a:pt x="0" y="110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9fb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 rot="1475400">
                    <a:off x="3507840" y="1774080"/>
                    <a:ext cx="81360" cy="1486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143">
                        <a:moveTo>
                          <a:pt x="0" y="118"/>
                        </a:moveTo>
                        <a:lnTo>
                          <a:pt x="27" y="0"/>
                        </a:lnTo>
                        <a:lnTo>
                          <a:pt x="58" y="15"/>
                        </a:lnTo>
                        <a:lnTo>
                          <a:pt x="31" y="143"/>
                        </a:lnTo>
                        <a:lnTo>
                          <a:pt x="3" y="140"/>
                        </a:lnTo>
                        <a:lnTo>
                          <a:pt x="0" y="118"/>
                        </a:lnTo>
                        <a:close/>
                      </a:path>
                    </a:pathLst>
                  </a:custGeom>
                  <a:solidFill>
                    <a:srgbClr val="bf7f3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 rot="1475400">
                    <a:off x="3443400" y="1778040"/>
                    <a:ext cx="79920" cy="2340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225">
                        <a:moveTo>
                          <a:pt x="25" y="0"/>
                        </a:moveTo>
                        <a:lnTo>
                          <a:pt x="40" y="12"/>
                        </a:lnTo>
                        <a:lnTo>
                          <a:pt x="49" y="29"/>
                        </a:lnTo>
                        <a:lnTo>
                          <a:pt x="54" y="49"/>
                        </a:lnTo>
                        <a:lnTo>
                          <a:pt x="57" y="71"/>
                        </a:lnTo>
                        <a:lnTo>
                          <a:pt x="56" y="92"/>
                        </a:lnTo>
                        <a:lnTo>
                          <a:pt x="51" y="122"/>
                        </a:lnTo>
                        <a:lnTo>
                          <a:pt x="44" y="149"/>
                        </a:lnTo>
                        <a:lnTo>
                          <a:pt x="34" y="177"/>
                        </a:lnTo>
                        <a:lnTo>
                          <a:pt x="19" y="200"/>
                        </a:lnTo>
                        <a:lnTo>
                          <a:pt x="0" y="225"/>
                        </a:lnTo>
                        <a:lnTo>
                          <a:pt x="25" y="0"/>
                        </a:lnTo>
                        <a:close/>
                      </a:path>
                    </a:pathLst>
                  </a:custGeom>
                  <a:solidFill>
                    <a:srgbClr val="9fb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 rot="1475400">
                    <a:off x="3402360" y="1742400"/>
                    <a:ext cx="104040" cy="26748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257">
                        <a:moveTo>
                          <a:pt x="36" y="0"/>
                        </a:moveTo>
                        <a:lnTo>
                          <a:pt x="74" y="4"/>
                        </a:lnTo>
                        <a:lnTo>
                          <a:pt x="36" y="257"/>
                        </a:lnTo>
                        <a:lnTo>
                          <a:pt x="0" y="254"/>
                        </a:lnTo>
                        <a:lnTo>
                          <a:pt x="36" y="0"/>
                        </a:lnTo>
                        <a:close/>
                      </a:path>
                    </a:pathLst>
                  </a:custGeom>
                  <a:solidFill>
                    <a:srgbClr val="bf7f3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16" name=""/>
            <p:cNvGrpSpPr/>
            <p:nvPr/>
          </p:nvGrpSpPr>
          <p:grpSpPr>
            <a:xfrm>
              <a:off x="2399760" y="1460880"/>
              <a:ext cx="1081080" cy="1290960"/>
              <a:chOff x="2399760" y="1460880"/>
              <a:chExt cx="1081080" cy="1290960"/>
            </a:xfrm>
          </p:grpSpPr>
          <p:grpSp>
            <p:nvGrpSpPr>
              <p:cNvPr id="317" name=""/>
              <p:cNvGrpSpPr/>
              <p:nvPr/>
            </p:nvGrpSpPr>
            <p:grpSpPr>
              <a:xfrm>
                <a:off x="2399760" y="1460880"/>
                <a:ext cx="1081080" cy="1290960"/>
                <a:chOff x="2399760" y="1460880"/>
                <a:chExt cx="1081080" cy="1290960"/>
              </a:xfrm>
            </p:grpSpPr>
            <p:grpSp>
              <p:nvGrpSpPr>
                <p:cNvPr id="318" name=""/>
                <p:cNvGrpSpPr/>
                <p:nvPr/>
              </p:nvGrpSpPr>
              <p:grpSpPr>
                <a:xfrm>
                  <a:off x="2917800" y="1964880"/>
                  <a:ext cx="351000" cy="317520"/>
                  <a:chOff x="2917800" y="1964880"/>
                  <a:chExt cx="351000" cy="317520"/>
                </a:xfrm>
              </p:grpSpPr>
              <p:sp>
                <p:nvSpPr>
                  <p:cNvPr id="319" name=""/>
                  <p:cNvSpPr/>
                  <p:nvPr/>
                </p:nvSpPr>
                <p:spPr>
                  <a:xfrm rot="1475400">
                    <a:off x="2932200" y="2009880"/>
                    <a:ext cx="243000" cy="12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3" h="117">
                        <a:moveTo>
                          <a:pt x="0" y="55"/>
                        </a:moveTo>
                        <a:lnTo>
                          <a:pt x="39" y="0"/>
                        </a:lnTo>
                        <a:lnTo>
                          <a:pt x="169" y="12"/>
                        </a:lnTo>
                        <a:lnTo>
                          <a:pt x="173" y="27"/>
                        </a:lnTo>
                        <a:lnTo>
                          <a:pt x="170" y="45"/>
                        </a:lnTo>
                        <a:lnTo>
                          <a:pt x="140" y="64"/>
                        </a:lnTo>
                        <a:lnTo>
                          <a:pt x="82" y="117"/>
                        </a:lnTo>
                        <a:lnTo>
                          <a:pt x="0" y="55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 rot="1475400">
                    <a:off x="3012120" y="2090160"/>
                    <a:ext cx="235800" cy="14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144">
                        <a:moveTo>
                          <a:pt x="0" y="84"/>
                        </a:moveTo>
                        <a:lnTo>
                          <a:pt x="58" y="12"/>
                        </a:lnTo>
                        <a:lnTo>
                          <a:pt x="85" y="27"/>
                        </a:lnTo>
                        <a:lnTo>
                          <a:pt x="97" y="12"/>
                        </a:lnTo>
                        <a:lnTo>
                          <a:pt x="127" y="0"/>
                        </a:lnTo>
                        <a:lnTo>
                          <a:pt x="138" y="21"/>
                        </a:lnTo>
                        <a:lnTo>
                          <a:pt x="150" y="26"/>
                        </a:lnTo>
                        <a:lnTo>
                          <a:pt x="150" y="43"/>
                        </a:lnTo>
                        <a:lnTo>
                          <a:pt x="168" y="49"/>
                        </a:lnTo>
                        <a:lnTo>
                          <a:pt x="164" y="59"/>
                        </a:lnTo>
                        <a:lnTo>
                          <a:pt x="116" y="78"/>
                        </a:lnTo>
                        <a:lnTo>
                          <a:pt x="125" y="104"/>
                        </a:lnTo>
                        <a:lnTo>
                          <a:pt x="120" y="120"/>
                        </a:lnTo>
                        <a:lnTo>
                          <a:pt x="108" y="123"/>
                        </a:lnTo>
                        <a:lnTo>
                          <a:pt x="93" y="115"/>
                        </a:lnTo>
                        <a:lnTo>
                          <a:pt x="90" y="144"/>
                        </a:lnTo>
                        <a:lnTo>
                          <a:pt x="0" y="84"/>
                        </a:lnTo>
                        <a:close/>
                      </a:path>
                    </a:pathLst>
                  </a:custGeom>
                  <a:solidFill>
                    <a:srgbClr val="ff001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1" name=""/>
                <p:cNvGrpSpPr/>
                <p:nvPr/>
              </p:nvGrpSpPr>
              <p:grpSpPr>
                <a:xfrm>
                  <a:off x="2399760" y="1460880"/>
                  <a:ext cx="1081080" cy="1290960"/>
                  <a:chOff x="2399760" y="1460880"/>
                  <a:chExt cx="1081080" cy="1290960"/>
                </a:xfrm>
              </p:grpSpPr>
              <p:grpSp>
                <p:nvGrpSpPr>
                  <p:cNvPr id="322" name=""/>
                  <p:cNvGrpSpPr/>
                  <p:nvPr/>
                </p:nvGrpSpPr>
                <p:grpSpPr>
                  <a:xfrm>
                    <a:off x="2399760" y="1460880"/>
                    <a:ext cx="1081080" cy="1290960"/>
                    <a:chOff x="2399760" y="1460880"/>
                    <a:chExt cx="1081080" cy="1290960"/>
                  </a:xfrm>
                </p:grpSpPr>
                <p:grpSp>
                  <p:nvGrpSpPr>
                    <p:cNvPr id="323" name=""/>
                    <p:cNvGrpSpPr/>
                    <p:nvPr/>
                  </p:nvGrpSpPr>
                  <p:grpSpPr>
                    <a:xfrm>
                      <a:off x="2399760" y="1460880"/>
                      <a:ext cx="1081080" cy="1290960"/>
                      <a:chOff x="2399760" y="1460880"/>
                      <a:chExt cx="1081080" cy="1290960"/>
                    </a:xfrm>
                  </p:grpSpPr>
                  <p:grpSp>
                    <p:nvGrpSpPr>
                      <p:cNvPr id="324" name=""/>
                      <p:cNvGrpSpPr/>
                      <p:nvPr/>
                    </p:nvGrpSpPr>
                    <p:grpSpPr>
                      <a:xfrm>
                        <a:off x="2666880" y="1460880"/>
                        <a:ext cx="342720" cy="401400"/>
                        <a:chOff x="2666880" y="1460880"/>
                        <a:chExt cx="342720" cy="401400"/>
                      </a:xfrm>
                    </p:grpSpPr>
                    <p:sp>
                      <p:nvSpPr>
                        <p:cNvPr id="325" name=""/>
                        <p:cNvSpPr/>
                        <p:nvPr/>
                      </p:nvSpPr>
                      <p:spPr>
                        <a:xfrm rot="1475400">
                          <a:off x="2755080" y="1726560"/>
                          <a:ext cx="147240" cy="110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5" h="106">
                              <a:moveTo>
                                <a:pt x="0" y="39"/>
                              </a:moveTo>
                              <a:lnTo>
                                <a:pt x="18" y="85"/>
                              </a:lnTo>
                              <a:lnTo>
                                <a:pt x="34" y="106"/>
                              </a:lnTo>
                              <a:lnTo>
                                <a:pt x="105" y="73"/>
                              </a:lnTo>
                              <a:lnTo>
                                <a:pt x="64" y="0"/>
                              </a:lnTo>
                              <a:lnTo>
                                <a:pt x="0" y="3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80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33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326" name=""/>
                        <p:cNvGrpSpPr/>
                        <p:nvPr/>
                      </p:nvGrpSpPr>
                      <p:grpSpPr>
                        <a:xfrm>
                          <a:off x="2666880" y="1460880"/>
                          <a:ext cx="342720" cy="356400"/>
                          <a:chOff x="2666880" y="1460880"/>
                          <a:chExt cx="342720" cy="356400"/>
                        </a:xfrm>
                      </p:grpSpPr>
                      <p:grpSp>
                        <p:nvGrpSpPr>
                          <p:cNvPr id="327" name=""/>
                          <p:cNvGrpSpPr/>
                          <p:nvPr/>
                        </p:nvGrpSpPr>
                        <p:grpSpPr>
                          <a:xfrm>
                            <a:off x="2666880" y="1460880"/>
                            <a:ext cx="342720" cy="356400"/>
                            <a:chOff x="2666880" y="1460880"/>
                            <a:chExt cx="342720" cy="356400"/>
                          </a:xfrm>
                        </p:grpSpPr>
                        <p:sp>
                          <p:nvSpPr>
                            <p:cNvPr id="328" name=""/>
                            <p:cNvSpPr/>
                            <p:nvPr/>
                          </p:nvSpPr>
                          <p:spPr>
                            <a:xfrm rot="1475400">
                              <a:off x="2689560" y="1661400"/>
                              <a:ext cx="123480" cy="1364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8" h="131">
                                  <a:moveTo>
                                    <a:pt x="0" y="4"/>
                                  </a:moveTo>
                                  <a:lnTo>
                                    <a:pt x="2" y="59"/>
                                  </a:lnTo>
                                  <a:lnTo>
                                    <a:pt x="11" y="79"/>
                                  </a:lnTo>
                                  <a:lnTo>
                                    <a:pt x="22" y="103"/>
                                  </a:lnTo>
                                  <a:lnTo>
                                    <a:pt x="30" y="117"/>
                                  </a:lnTo>
                                  <a:lnTo>
                                    <a:pt x="41" y="131"/>
                                  </a:lnTo>
                                  <a:lnTo>
                                    <a:pt x="58" y="124"/>
                                  </a:lnTo>
                                  <a:lnTo>
                                    <a:pt x="88" y="118"/>
                                  </a:lnTo>
                                  <a:lnTo>
                                    <a:pt x="67" y="0"/>
                                  </a:lnTo>
                                  <a:lnTo>
                                    <a:pt x="0" y="4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c0c0c0"/>
                            </a:solidFill>
                            <a:ln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33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29" name=""/>
                            <p:cNvSpPr/>
                            <p:nvPr/>
                          </p:nvSpPr>
                          <p:spPr>
                            <a:xfrm rot="1475400">
                              <a:off x="2701800" y="1507680"/>
                              <a:ext cx="273960" cy="2206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95" h="212">
                                  <a:moveTo>
                                    <a:pt x="0" y="198"/>
                                  </a:moveTo>
                                  <a:lnTo>
                                    <a:pt x="9" y="166"/>
                                  </a:lnTo>
                                  <a:lnTo>
                                    <a:pt x="18" y="145"/>
                                  </a:lnTo>
                                  <a:lnTo>
                                    <a:pt x="38" y="115"/>
                                  </a:lnTo>
                                  <a:lnTo>
                                    <a:pt x="74" y="76"/>
                                  </a:lnTo>
                                  <a:lnTo>
                                    <a:pt x="110" y="38"/>
                                  </a:lnTo>
                                  <a:lnTo>
                                    <a:pt x="147" y="0"/>
                                  </a:lnTo>
                                  <a:lnTo>
                                    <a:pt x="158" y="1"/>
                                  </a:lnTo>
                                  <a:lnTo>
                                    <a:pt x="195" y="37"/>
                                  </a:lnTo>
                                  <a:lnTo>
                                    <a:pt x="82" y="212"/>
                                  </a:lnTo>
                                  <a:lnTo>
                                    <a:pt x="0" y="198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c0c0c0"/>
                            </a:solidFill>
                            <a:ln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33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30" name=""/>
                          <p:cNvSpPr/>
                          <p:nvPr/>
                        </p:nvSpPr>
                        <p:spPr>
                          <a:xfrm rot="1475400">
                            <a:off x="2906280" y="1564560"/>
                            <a:ext cx="44640" cy="41760"/>
                          </a:xfrm>
                          <a:prstGeom prst="ellipse">
                            <a:avLst/>
                          </a:prstGeom>
                          <a:solidFill>
                            <a:srgbClr val="ff9f00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7280" bIns="-172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33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331" name=""/>
                      <p:cNvSpPr/>
                      <p:nvPr/>
                    </p:nvSpPr>
                    <p:spPr>
                      <a:xfrm rot="1475400">
                        <a:off x="2583360" y="1611720"/>
                        <a:ext cx="713520" cy="1038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08" h="997">
                            <a:moveTo>
                              <a:pt x="0" y="227"/>
                            </a:moveTo>
                            <a:lnTo>
                              <a:pt x="11" y="183"/>
                            </a:lnTo>
                            <a:lnTo>
                              <a:pt x="30" y="143"/>
                            </a:lnTo>
                            <a:lnTo>
                              <a:pt x="54" y="107"/>
                            </a:lnTo>
                            <a:lnTo>
                              <a:pt x="78" y="71"/>
                            </a:lnTo>
                            <a:lnTo>
                              <a:pt x="110" y="36"/>
                            </a:lnTo>
                            <a:lnTo>
                              <a:pt x="134" y="0"/>
                            </a:lnTo>
                            <a:lnTo>
                              <a:pt x="163" y="12"/>
                            </a:lnTo>
                            <a:lnTo>
                              <a:pt x="191" y="30"/>
                            </a:lnTo>
                            <a:lnTo>
                              <a:pt x="221" y="51"/>
                            </a:lnTo>
                            <a:lnTo>
                              <a:pt x="251" y="80"/>
                            </a:lnTo>
                            <a:lnTo>
                              <a:pt x="280" y="104"/>
                            </a:lnTo>
                            <a:lnTo>
                              <a:pt x="325" y="153"/>
                            </a:lnTo>
                            <a:lnTo>
                              <a:pt x="317" y="194"/>
                            </a:lnTo>
                            <a:lnTo>
                              <a:pt x="305" y="246"/>
                            </a:lnTo>
                            <a:lnTo>
                              <a:pt x="295" y="299"/>
                            </a:lnTo>
                            <a:lnTo>
                              <a:pt x="289" y="337"/>
                            </a:lnTo>
                            <a:lnTo>
                              <a:pt x="286" y="358"/>
                            </a:lnTo>
                            <a:lnTo>
                              <a:pt x="272" y="394"/>
                            </a:lnTo>
                            <a:lnTo>
                              <a:pt x="448" y="569"/>
                            </a:lnTo>
                            <a:lnTo>
                              <a:pt x="469" y="619"/>
                            </a:lnTo>
                            <a:lnTo>
                              <a:pt x="484" y="669"/>
                            </a:lnTo>
                            <a:lnTo>
                              <a:pt x="502" y="717"/>
                            </a:lnTo>
                            <a:lnTo>
                              <a:pt x="508" y="750"/>
                            </a:lnTo>
                            <a:lnTo>
                              <a:pt x="505" y="790"/>
                            </a:lnTo>
                            <a:lnTo>
                              <a:pt x="503" y="822"/>
                            </a:lnTo>
                            <a:lnTo>
                              <a:pt x="493" y="873"/>
                            </a:lnTo>
                            <a:lnTo>
                              <a:pt x="373" y="997"/>
                            </a:lnTo>
                            <a:lnTo>
                              <a:pt x="317" y="994"/>
                            </a:lnTo>
                            <a:lnTo>
                              <a:pt x="158" y="977"/>
                            </a:lnTo>
                            <a:lnTo>
                              <a:pt x="84" y="890"/>
                            </a:lnTo>
                            <a:lnTo>
                              <a:pt x="75" y="849"/>
                            </a:lnTo>
                            <a:lnTo>
                              <a:pt x="59" y="789"/>
                            </a:lnTo>
                            <a:lnTo>
                              <a:pt x="36" y="736"/>
                            </a:lnTo>
                            <a:lnTo>
                              <a:pt x="26" y="684"/>
                            </a:lnTo>
                            <a:lnTo>
                              <a:pt x="42" y="687"/>
                            </a:lnTo>
                            <a:lnTo>
                              <a:pt x="75" y="720"/>
                            </a:lnTo>
                            <a:lnTo>
                              <a:pt x="109" y="730"/>
                            </a:lnTo>
                            <a:lnTo>
                              <a:pt x="116" y="718"/>
                            </a:lnTo>
                            <a:lnTo>
                              <a:pt x="131" y="717"/>
                            </a:lnTo>
                            <a:lnTo>
                              <a:pt x="134" y="660"/>
                            </a:lnTo>
                            <a:lnTo>
                              <a:pt x="139" y="601"/>
                            </a:lnTo>
                            <a:lnTo>
                              <a:pt x="52" y="513"/>
                            </a:lnTo>
                            <a:lnTo>
                              <a:pt x="92" y="353"/>
                            </a:lnTo>
                            <a:lnTo>
                              <a:pt x="112" y="293"/>
                            </a:lnTo>
                            <a:lnTo>
                              <a:pt x="94" y="287"/>
                            </a:lnTo>
                            <a:lnTo>
                              <a:pt x="107" y="273"/>
                            </a:lnTo>
                            <a:lnTo>
                              <a:pt x="56" y="246"/>
                            </a:lnTo>
                            <a:lnTo>
                              <a:pt x="0" y="227"/>
                            </a:lnTo>
                            <a:close/>
                          </a:path>
                        </a:pathLst>
                      </a:custGeom>
                      <a:solidFill>
                        <a:srgbClr val="0000ff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33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32" name=""/>
                    <p:cNvGrpSpPr/>
                    <p:nvPr/>
                  </p:nvGrpSpPr>
                  <p:grpSpPr>
                    <a:xfrm>
                      <a:off x="2653920" y="1830600"/>
                      <a:ext cx="295560" cy="500400"/>
                      <a:chOff x="2653920" y="1830600"/>
                      <a:chExt cx="295560" cy="500400"/>
                    </a:xfrm>
                  </p:grpSpPr>
                  <p:grpSp>
                    <p:nvGrpSpPr>
                      <p:cNvPr id="333" name=""/>
                      <p:cNvGrpSpPr/>
                      <p:nvPr/>
                    </p:nvGrpSpPr>
                    <p:grpSpPr>
                      <a:xfrm>
                        <a:off x="2849040" y="1830600"/>
                        <a:ext cx="100440" cy="52560"/>
                        <a:chOff x="2849040" y="1830600"/>
                        <a:chExt cx="100440" cy="52560"/>
                      </a:xfrm>
                    </p:grpSpPr>
                    <p:sp>
                      <p:nvSpPr>
                        <p:cNvPr id="334" name=""/>
                        <p:cNvSpPr/>
                        <p:nvPr/>
                      </p:nvSpPr>
                      <p:spPr>
                        <a:xfrm>
                          <a:off x="2850840" y="1830600"/>
                          <a:ext cx="98640" cy="90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800" bIns="-37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33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5" name=""/>
                        <p:cNvSpPr/>
                        <p:nvPr/>
                      </p:nvSpPr>
                      <p:spPr>
                        <a:xfrm>
                          <a:off x="2849040" y="1853280"/>
                          <a:ext cx="94320" cy="298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6920" bIns="-169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33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36" name=""/>
                      <p:cNvGrpSpPr/>
                      <p:nvPr/>
                    </p:nvGrpSpPr>
                    <p:grpSpPr>
                      <a:xfrm>
                        <a:off x="2653920" y="2160720"/>
                        <a:ext cx="159480" cy="170280"/>
                        <a:chOff x="2653920" y="2160720"/>
                        <a:chExt cx="159480" cy="170280"/>
                      </a:xfrm>
                    </p:grpSpPr>
                    <p:sp>
                      <p:nvSpPr>
                        <p:cNvPr id="337" name=""/>
                        <p:cNvSpPr/>
                        <p:nvPr/>
                      </p:nvSpPr>
                      <p:spPr>
                        <a:xfrm rot="1475400">
                          <a:off x="2742840" y="2175120"/>
                          <a:ext cx="71640" cy="10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1" h="10">
                              <a:moveTo>
                                <a:pt x="0" y="0"/>
                              </a:moveTo>
                              <a:lnTo>
                                <a:pt x="13" y="10"/>
                              </a:lnTo>
                              <a:lnTo>
                                <a:pt x="51" y="4"/>
                              </a:lnTo>
                            </a:path>
                          </a:pathLst>
                        </a:custGeom>
                        <a:noFill/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6720" bIns="-36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33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8" name=""/>
                        <p:cNvSpPr/>
                        <p:nvPr/>
                      </p:nvSpPr>
                      <p:spPr>
                        <a:xfrm rot="1475400">
                          <a:off x="2678400" y="2274480"/>
                          <a:ext cx="50040" cy="47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6" h="46">
                              <a:moveTo>
                                <a:pt x="0" y="0"/>
                              </a:moveTo>
                              <a:lnTo>
                                <a:pt x="12" y="21"/>
                              </a:lnTo>
                              <a:lnTo>
                                <a:pt x="36" y="46"/>
                              </a:lnTo>
                            </a:path>
                          </a:pathLst>
                        </a:custGeom>
                        <a:noFill/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80" bIns="1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33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9" name=""/>
                        <p:cNvSpPr/>
                        <p:nvPr/>
                      </p:nvSpPr>
                      <p:spPr>
                        <a:xfrm>
                          <a:off x="2653920" y="2267280"/>
                          <a:ext cx="8640" cy="450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800" bIns="-1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33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sp>
                <p:nvSpPr>
                  <p:cNvPr id="340" name=""/>
                  <p:cNvSpPr/>
                  <p:nvPr/>
                </p:nvSpPr>
                <p:spPr>
                  <a:xfrm rot="1475400">
                    <a:off x="3031560" y="1748160"/>
                    <a:ext cx="143280" cy="18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175">
                        <a:moveTo>
                          <a:pt x="44" y="0"/>
                        </a:moveTo>
                        <a:lnTo>
                          <a:pt x="9" y="26"/>
                        </a:lnTo>
                        <a:lnTo>
                          <a:pt x="0" y="56"/>
                        </a:lnTo>
                        <a:lnTo>
                          <a:pt x="36" y="83"/>
                        </a:lnTo>
                        <a:lnTo>
                          <a:pt x="43" y="104"/>
                        </a:lnTo>
                        <a:lnTo>
                          <a:pt x="30" y="152"/>
                        </a:lnTo>
                        <a:lnTo>
                          <a:pt x="37" y="171"/>
                        </a:lnTo>
                        <a:lnTo>
                          <a:pt x="79" y="175"/>
                        </a:lnTo>
                        <a:lnTo>
                          <a:pt x="102" y="63"/>
                        </a:lnTo>
                        <a:lnTo>
                          <a:pt x="68" y="23"/>
                        </a:lnTo>
                        <a:lnTo>
                          <a:pt x="57" y="11"/>
                        </a:lnTo>
                        <a:lnTo>
                          <a:pt x="44" y="0"/>
                        </a:lnTo>
                        <a:close/>
                      </a:path>
                    </a:pathLst>
                  </a:custGeom>
                  <a:solidFill>
                    <a:srgbClr val="ff001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41" name=""/>
              <p:cNvGrpSpPr/>
              <p:nvPr/>
            </p:nvGrpSpPr>
            <p:grpSpPr>
              <a:xfrm>
                <a:off x="3047040" y="2437200"/>
                <a:ext cx="88200" cy="124200"/>
                <a:chOff x="3047040" y="2437200"/>
                <a:chExt cx="88200" cy="124200"/>
              </a:xfrm>
            </p:grpSpPr>
            <p:sp>
              <p:nvSpPr>
                <p:cNvPr id="342" name=""/>
                <p:cNvSpPr/>
                <p:nvPr/>
              </p:nvSpPr>
              <p:spPr>
                <a:xfrm rot="1475400">
                  <a:off x="3085560" y="2443680"/>
                  <a:ext cx="41760" cy="47880"/>
                </a:xfrm>
                <a:prstGeom prst="ellipse">
                  <a:avLst/>
                </a:prstGeom>
                <a:solidFill>
                  <a:srgbClr val="ff9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 rot="1475400">
                  <a:off x="3054960" y="2506680"/>
                  <a:ext cx="42120" cy="47880"/>
                </a:xfrm>
                <a:prstGeom prst="ellipse">
                  <a:avLst/>
                </a:prstGeom>
                <a:solidFill>
                  <a:srgbClr val="ff9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44" name="">
            <a:hlinkClick r:id="" action="ppaction://hlinkshowjump?jump=previousslide"/>
          </p:cNvPr>
          <p:cNvSpPr/>
          <p:nvPr/>
        </p:nvSpPr>
        <p:spPr>
          <a:xfrm>
            <a:off x="8604360" y="5950080"/>
            <a:ext cx="288720" cy="358560"/>
          </a:xfrm>
          <a:custGeom>
            <a:avLst/>
            <a:gdLst>
              <a:gd name="textAreaLeft" fmla="*/ 18720 w 288720"/>
              <a:gd name="textAreaRight" fmla="*/ 270000 w 288720"/>
              <a:gd name="textAreaTop" fmla="*/ 18720 h 358560"/>
              <a:gd name="textAreaBottom" fmla="*/ 339840 h 358560"/>
            </a:gdLst>
            <a:ahLst/>
            <a:rect l="textAreaLeft" t="textAreaTop" r="textAreaRight" b="textAreaBottom"/>
            <a:pathLst>
              <a:path w="21600" h="26818">
                <a:moveTo>
                  <a:pt x="0" y="0"/>
                </a:moveTo>
                <a:lnTo>
                  <a:pt x="21600" y="0"/>
                </a:lnTo>
                <a:lnTo>
                  <a:pt x="21600" y="26818"/>
                </a:lnTo>
                <a:lnTo>
                  <a:pt x="0" y="26818"/>
                </a:lnTo>
                <a:close/>
              </a:path>
              <a:path fill="lightenLess" w="21600" h="268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818">
                <a:moveTo>
                  <a:pt x="21600" y="0"/>
                </a:moveTo>
                <a:lnTo>
                  <a:pt x="21600" y="26818"/>
                </a:lnTo>
                <a:lnTo>
                  <a:pt x="20200" y="25418"/>
                </a:lnTo>
                <a:lnTo>
                  <a:pt x="20200" y="1400"/>
                </a:lnTo>
                <a:close/>
              </a:path>
              <a:path fill="darkenLess" w="21600" h="26818">
                <a:moveTo>
                  <a:pt x="21600" y="26818"/>
                </a:moveTo>
                <a:lnTo>
                  <a:pt x="0" y="26818"/>
                </a:lnTo>
                <a:lnTo>
                  <a:pt x="1400" y="25418"/>
                </a:lnTo>
                <a:lnTo>
                  <a:pt x="20200" y="25418"/>
                </a:lnTo>
                <a:close/>
              </a:path>
              <a:path fill="lighten" w="21600" h="26818">
                <a:moveTo>
                  <a:pt x="0" y="268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5418"/>
                </a:lnTo>
                <a:close/>
              </a:path>
              <a:path fill="darken" w="21600" h="26818">
                <a:moveTo>
                  <a:pt x="3794" y="13409"/>
                </a:moveTo>
                <a:lnTo>
                  <a:pt x="17806" y="6403"/>
                </a:lnTo>
                <a:lnTo>
                  <a:pt x="17806" y="2041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8T13:09:27Z</dcterms:created>
  <dc:creator>张中华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6:06:35Z</dcterms:modified>
  <cp:revision>61</cp:revision>
  <dc:subject>主题班会课件(分28大类): http://shop62905894.taobao.com</dc:subject>
  <dc:title>主题班会课件(分28大类): http://shop62905894.taobao.com</dc:title>
</cp:coreProperties>
</file>